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FAA-A3ED-44CC-A99E-0C355C9D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13C-5701-4FC8-879D-2A65A2E4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74A-30EB-455F-BCB8-F99113C7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013-9C1B-4644-9030-80D82CC0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229-D769-469B-8163-B7FEB23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5F2-9849-48B9-B749-10D29911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1DB-836B-4E22-8191-8297CEE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0F1-6F3F-465F-A74A-DC5BCE52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2F8-80D4-4EB9-99CE-BB76F02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191-93BA-497F-BE8A-62389A2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394-1D77-412A-9EC5-C6D7ACF9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572-1E2A-4077-A332-DB757B9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1DB-75BD-4D4B-99C9-B971557E5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hyperlink" Target="E:\&#1090;&#1086;&#1083;&#1082;&#1086;&#1074;&#1099;&#1077;\&#1060;&#1048;&#1047;&#1048;&#1050;&#1040;\&#1092;&#1080;&#1079;&#1080;&#1082;&#1072;-8\&#1069;&#1083;&#1077;&#1082;&#1090;&#1088;&#1080;&#1095;&#1077;&#1089;&#1082;&#1086;&#1077; &#1089;&#1086;&#1087;&#1088;&#1086;&#1090;&#1080;&#1074;&#1083;&#1077;&#1085;&#1080;&#1077;\&#1069;&#1083;&#1077;&#1082;&#1090;&#1088;&#1080;&#1095;&#1077;&#1089;&#1082;&#1086;&#1077; &#1089;&#1086;&#1087;&#1088;&#1086;&#1090;&#1080;&#1074;&#1083;&#1077;&#1085;&#1080;&#1077;\e 09 &#1101;&#1083;&#1077;&#1082;&#1090;&#1088;&#1080;&#1095;&#1077;&#1089;&#1082;&#1080;&#1081; &#1090;&#1086;&#1082; &#1074; &#1084;&#1077;.avi" TargetMode="External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ическое сопрот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крываем новое свойство т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CAA5-A123-485A-927F-AC7B0BC60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3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1763640" y="4797360"/>
            <a:ext cx="2592360" cy="503280"/>
          </a:xfrm>
          <a:prstGeom prst="rightArrowCallout">
            <a:avLst>
              <a:gd name="adj1" fmla="val 24919"/>
              <a:gd name="adj2" fmla="val 25079"/>
              <a:gd name="adj3" fmla="val 52582"/>
              <a:gd name="adj4" fmla="val 863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1763640" y="2421000"/>
            <a:ext cx="2232000" cy="2303280"/>
          </a:xfrm>
          <a:prstGeom prst="downArrowCallout">
            <a:avLst>
              <a:gd name="adj1" fmla="val 25002"/>
              <a:gd name="adj2" fmla="val 25000"/>
              <a:gd name="adj3" fmla="val 17199"/>
              <a:gd name="adj4" fmla="val 74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ЛКН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пытов с раз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од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.уче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рга 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24000" y="5013360"/>
            <a:ext cx="1512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инаковы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403280" y="692280"/>
            <a:ext cx="2735280" cy="642600"/>
          </a:xfrm>
          <a:prstGeom prst="rect">
            <a:avLst/>
          </a:pr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ИЧЕСКОЕ СОПРОТИ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356000" y="692280"/>
            <a:ext cx="720720" cy="642600"/>
          </a:xfrm>
          <a:prstGeom prst="rect">
            <a:avLst/>
          </a:pr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3"/>
          <p:cNvSpPr/>
          <p:nvPr/>
        </p:nvSpPr>
        <p:spPr>
          <a:xfrm>
            <a:off x="2411280" y="1484280"/>
            <a:ext cx="792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2268360" y="1989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5148360" y="69228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д. 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Ом = 0,001 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кОм = 1 000 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м=1 000 000 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5580000" y="2421000"/>
            <a:ext cx="2521080" cy="947520"/>
          </a:xfrm>
          <a:prstGeom prst="rect">
            <a:avLst/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ельное сопротивление прово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5"/>
              <p:cNvSpPr txBox="1"/>
              <p:nvPr/>
            </p:nvSpPr>
            <p:spPr>
              <a:xfrm>
                <a:off x="6012000" y="5084640"/>
                <a:ext cx="1584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7" name="Picture 44" descr="BLUEITEM"/>
          <p:cNvPicPr/>
          <p:nvPr/>
        </p:nvPicPr>
        <p:blipFill>
          <a:blip r:embed="rId1"/>
          <a:stretch/>
        </p:blipFill>
        <p:spPr>
          <a:xfrm>
            <a:off x="4284720" y="2492280"/>
            <a:ext cx="380880" cy="419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5" descr="2-2"/>
          <p:cNvPicPr/>
          <p:nvPr/>
        </p:nvPicPr>
        <p:blipFill>
          <a:blip r:embed="rId2"/>
          <a:stretch/>
        </p:blipFill>
        <p:spPr>
          <a:xfrm>
            <a:off x="1042920" y="2421000"/>
            <a:ext cx="576360" cy="5634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50"/>
              <p:cNvSpPr txBox="1"/>
              <p:nvPr/>
            </p:nvSpPr>
            <p:spPr>
              <a:xfrm>
                <a:off x="6804000" y="549360"/>
                <a:ext cx="12254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AutoShape 55"/>
          <p:cNvSpPr/>
          <p:nvPr/>
        </p:nvSpPr>
        <p:spPr>
          <a:xfrm>
            <a:off x="1763640" y="5373720"/>
            <a:ext cx="4103640" cy="503280"/>
          </a:xfrm>
          <a:prstGeom prst="rightArrowCallout">
            <a:avLst>
              <a:gd name="adj1" fmla="val 66571"/>
              <a:gd name="adj2" fmla="val 50000"/>
              <a:gd name="adj3" fmla="val 83425"/>
              <a:gd name="adj4" fmla="val 54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6"/>
          <p:cNvSpPr/>
          <p:nvPr/>
        </p:nvSpPr>
        <p:spPr>
          <a:xfrm>
            <a:off x="1763640" y="5950080"/>
            <a:ext cx="2592360" cy="503280"/>
          </a:xfrm>
          <a:prstGeom prst="rightArrowCallout">
            <a:avLst>
              <a:gd name="adj1" fmla="val 24919"/>
              <a:gd name="adj2" fmla="val 25079"/>
              <a:gd name="adj3" fmla="val 52582"/>
              <a:gd name="adj4" fmla="val 85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чение    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4067280" y="537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а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57"/>
              <p:cNvSpPr txBox="1"/>
              <p:nvPr/>
            </p:nvSpPr>
            <p:spPr>
              <a:xfrm>
                <a:off x="5940360" y="3500280"/>
                <a:ext cx="1871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ρ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м</m:t>
                            </m:r>
                            <m:r>
                              <m:t xml:space="preserve">∗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м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м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62"/>
              <p:cNvSpPr txBox="1"/>
              <p:nvPr/>
            </p:nvSpPr>
            <p:spPr>
              <a:xfrm>
                <a:off x="6012000" y="4437000"/>
                <a:ext cx="13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∗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 Box 63"/>
          <p:cNvSpPr/>
          <p:nvPr/>
        </p:nvSpPr>
        <p:spPr>
          <a:xfrm>
            <a:off x="468360" y="620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5"/>
          <p:cNvSpPr/>
          <p:nvPr/>
        </p:nvSpPr>
        <p:spPr>
          <a:xfrm>
            <a:off x="4140360" y="3645000"/>
            <a:ext cx="1368360" cy="459720"/>
          </a:xfrm>
          <a:prstGeom prst="rect">
            <a:avLst/>
          </a:pr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Ом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2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2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2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3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3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2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2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2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60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2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2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2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8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2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2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2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3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2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2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2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2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2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2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2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2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2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2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2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2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2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D4AF-0C85-4CCC-BD82-7D1E306F2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067280" y="475920"/>
            <a:ext cx="4897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05"/>
                </a:solidFill>
                <a:latin typeface="Times New Roman"/>
              </a:rPr>
              <a:t>Омме́т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рительный прибор для определения электрических сопроти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новидности ом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гаоммет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гаоммет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оммет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ллиоммет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крооммет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личающиеся диапазонами измеряемых сопроти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йствие магнитоэлектрического омметра основано на измерении силы тока, протекающего через измеряемое сопротивление при постоянном напряжении источника п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измерения сопротивлений измеритель и измеряемое сопротивление включают последовательн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3225600" cy="444672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611280" y="476280"/>
            <a:ext cx="345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Ом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>
            <a:hlinkClick r:id="rId2" action="ppaction://hlinksldjump"/>
          </p:cNvPr>
          <p:cNvSpPr/>
          <p:nvPr/>
        </p:nvSpPr>
        <p:spPr>
          <a:xfrm>
            <a:off x="7667640" y="6237360"/>
            <a:ext cx="649440" cy="5047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10800"/>
                </a:moveTo>
                <a:lnTo>
                  <a:pt x="20901" y="3794"/>
                </a:lnTo>
                <a:lnTo>
                  <a:pt x="2090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DFD3-FE04-44D9-892E-7D36F43B4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755640" y="1268280"/>
            <a:ext cx="770400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Удельное сопротивление никелина  . Что это знач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.Какие из веществ относятся к лучшим проводникам электричест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.Для нагревательных элементов удобно использовать вещества с большим удельным сопротивлением, назовите такие ве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68360" y="404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бота с учебником: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аб.№8, стр.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AF06-3F83-4C17-83F9-13477EAFD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aae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132000" y="1125360"/>
            <a:ext cx="23050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 = 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5 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867280" y="1125360"/>
            <a:ext cx="23050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 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39640" y="1125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ычислите сопроти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468360" y="292428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ово сопротивление медного провода длиной 1м и площадью поперечного сечения 1 мм2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Имеются две алюминиевые проволоки одинаковой толщины. Длина одной 1 м, а другой – 5 м. У какой проволоки  сопротивление меньше и во сколько раз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При устройстве молниеотвода использовали стальной провод сечением 35 мм2 и длиной 70м. Определите его сопроти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5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4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96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9F9-1CA5-4346-B965-2F0BB66AE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aae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95280" y="119700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5"/>
                </a:solidFill>
                <a:latin typeface="Arial"/>
              </a:rPr>
              <a:t>Тест-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95280" y="836640"/>
          <a:ext cx="3240000" cy="57610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ческое сопротивление прово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вещества имеют большое уд.сопроти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 сопроти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 удельного сопроти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 Омм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Причина электрического сопроти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ым сопротивлением проводника назыв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780000" y="836640"/>
          <a:ext cx="4975200" cy="5761080"/>
        </p:xfrm>
        <a:graphic>
          <a:graphicData uri="http://schemas.openxmlformats.org/drawingml/2006/table">
            <a:tbl>
              <a:tblPr/>
              <a:tblGrid>
                <a:gridCol w="497520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тивление проводника из данного вещества длиной 1м, площадью поперечного сечения 1м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ое сопротивление проводника рассчитывается по форму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ор для измерения сопроти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 пропорционально длине проводника и обратно пропорционально площади поперечного сечения прово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/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тивление проводника рассчитывается по форму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/   фарфор, эбон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кновения электронов и и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/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тивление проводника рассчитывается по формуле через закон 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57"/>
              <p:cNvSpPr txBox="1"/>
              <p:nvPr/>
            </p:nvSpPr>
            <p:spPr>
              <a:xfrm>
                <a:off x="4284720" y="5013360"/>
                <a:ext cx="936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63"/>
              <p:cNvSpPr txBox="1"/>
              <p:nvPr/>
            </p:nvSpPr>
            <p:spPr>
              <a:xfrm>
                <a:off x="4211640" y="3500280"/>
                <a:ext cx="930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м</m:t>
                            </m:r>
                            <m:r>
                              <m:t xml:space="preserve">∗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м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м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6"/>
              <p:cNvSpPr txBox="1"/>
              <p:nvPr/>
            </p:nvSpPr>
            <p:spPr>
              <a:xfrm>
                <a:off x="755640" y="2205000"/>
                <a:ext cx="719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Rectangle 98"/>
          <p:cNvSpPr/>
          <p:nvPr/>
        </p:nvSpPr>
        <p:spPr>
          <a:xfrm>
            <a:off x="-1810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7"/>
              <p:cNvSpPr txBox="1"/>
              <p:nvPr/>
            </p:nvSpPr>
            <p:spPr>
              <a:xfrm>
                <a:off x="755640" y="3284640"/>
                <a:ext cx="7207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Rectangle 1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43"/>
              <p:cNvSpPr txBox="1"/>
              <p:nvPr/>
            </p:nvSpPr>
            <p:spPr>
              <a:xfrm>
                <a:off x="900000" y="6021360"/>
                <a:ext cx="720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946A-F097-4D55-8FC9-D627F5451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755640" y="1268280"/>
            <a:ext cx="2232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- 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–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–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27280" y="1341360"/>
            <a:ext cx="22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–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–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–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–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–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765800" y="50328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5"/>
                </a:solidFill>
                <a:latin typeface="Arial"/>
              </a:rPr>
              <a:t>Код от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203640" y="3789360"/>
            <a:ext cx="48956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5"/>
                </a:solidFill>
                <a:latin typeface="Arial"/>
              </a:rPr>
              <a:t>Оценки за тес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-10 правильных ответов- «5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8 правильных ответов- «4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6 правильных ответов- «3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ее 5 ответов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F7A-7330-4CA6-8A73-1BBFD4A94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187280" y="1268280"/>
            <a:ext cx="6697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5"/>
                </a:solidFill>
                <a:latin typeface="Arial"/>
              </a:rPr>
              <a:t>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§  43, 45, 46 выучить определения,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.18(1,2),20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ксперименталь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паспортным  данным лампочек елочных гирлянд и карманного фонаря рассчитайте сопротивление нитей нака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B5C-2848-42E4-92BF-14A5B7046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0920" y="1052640"/>
          <a:ext cx="8578800" cy="3181320"/>
        </p:xfrm>
        <a:graphic>
          <a:graphicData uri="http://schemas.openxmlformats.org/drawingml/2006/table">
            <a:tbl>
              <a:tblPr/>
              <a:tblGrid>
                <a:gridCol w="433440"/>
                <a:gridCol w="1726920"/>
                <a:gridCol w="3808440"/>
                <a:gridCol w="26100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 тока равн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ю работы тока на данном участке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электрическому заряду, прошедшему по  участ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яжение равн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ю электрического заряда, прошедшего через поперечное сечение проводник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 времени прохождения заря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50920" y="4508640"/>
          <a:ext cx="8569080" cy="1923840"/>
        </p:xfrm>
        <a:graphic>
          <a:graphicData uri="http://schemas.openxmlformats.org/drawingml/2006/table">
            <a:tbl>
              <a:tblPr/>
              <a:tblGrid>
                <a:gridCol w="433440"/>
                <a:gridCol w="2901960"/>
                <a:gridCol w="2655720"/>
                <a:gridCol w="257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ерметр включают в цеп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ьно участку це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ы измерения – В (Воль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тметр включают в цеп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 с потребител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ы измерения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мпе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330-41D6-4546-B179-6300837B1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2746440" cy="247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А,2Б, 2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А, 1Б, 1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А, 4Б, 4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А, 3Б, 3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 от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3"/>
          <p:cNvGrpSpPr/>
          <p:nvPr/>
        </p:nvGrpSpPr>
        <p:grpSpPr>
          <a:xfrm>
            <a:off x="5003640" y="5444640"/>
            <a:ext cx="2174760" cy="1041840"/>
            <a:chOff x="5003640" y="5444640"/>
            <a:chExt cx="2174760" cy="1041840"/>
          </a:xfrm>
        </p:grpSpPr>
        <p:grpSp>
          <p:nvGrpSpPr>
            <p:cNvPr id="52" name="Group 90"/>
            <p:cNvGrpSpPr/>
            <p:nvPr/>
          </p:nvGrpSpPr>
          <p:grpSpPr>
            <a:xfrm>
              <a:off x="6443640" y="6237000"/>
              <a:ext cx="223560" cy="228600"/>
              <a:chOff x="6443640" y="6237000"/>
              <a:chExt cx="223560" cy="228600"/>
            </a:xfrm>
          </p:grpSpPr>
          <p:sp>
            <p:nvSpPr>
              <p:cNvPr id="53" name="Line 49"/>
              <p:cNvSpPr/>
              <p:nvPr/>
            </p:nvSpPr>
            <p:spPr>
              <a:xfrm>
                <a:off x="6443640" y="6346080"/>
                <a:ext cx="22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50"/>
              <p:cNvSpPr/>
              <p:nvPr/>
            </p:nvSpPr>
            <p:spPr>
              <a:xfrm>
                <a:off x="6548400" y="6237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3"/>
            <p:cNvGrpSpPr/>
            <p:nvPr/>
          </p:nvGrpSpPr>
          <p:grpSpPr>
            <a:xfrm>
              <a:off x="5003640" y="5444640"/>
              <a:ext cx="2174760" cy="1041840"/>
              <a:chOff x="5003640" y="5444640"/>
              <a:chExt cx="2174760" cy="1041840"/>
            </a:xfrm>
          </p:grpSpPr>
          <p:sp>
            <p:nvSpPr>
              <p:cNvPr id="56" name="Line 10"/>
              <p:cNvSpPr/>
              <p:nvPr/>
            </p:nvSpPr>
            <p:spPr>
              <a:xfrm flipV="1">
                <a:off x="7178400" y="5460120"/>
                <a:ext cx="0" cy="67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"/>
              <p:cNvSpPr/>
              <p:nvPr/>
            </p:nvSpPr>
            <p:spPr>
              <a:xfrm>
                <a:off x="6401880" y="6128640"/>
                <a:ext cx="76644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96"/>
              <p:cNvGrpSpPr/>
              <p:nvPr/>
            </p:nvGrpSpPr>
            <p:grpSpPr>
              <a:xfrm>
                <a:off x="5508360" y="5905080"/>
                <a:ext cx="1121040" cy="581400"/>
                <a:chOff x="5508360" y="5905080"/>
                <a:chExt cx="1121040" cy="581400"/>
              </a:xfrm>
            </p:grpSpPr>
            <p:grpSp>
              <p:nvGrpSpPr>
                <p:cNvPr id="59" name="Group 7"/>
                <p:cNvGrpSpPr/>
                <p:nvPr/>
              </p:nvGrpSpPr>
              <p:grpSpPr>
                <a:xfrm>
                  <a:off x="5778720" y="5905080"/>
                  <a:ext cx="850680" cy="581400"/>
                  <a:chOff x="5778720" y="5905080"/>
                  <a:chExt cx="850680" cy="581400"/>
                </a:xfrm>
              </p:grpSpPr>
              <p:sp>
                <p:nvSpPr>
                  <p:cNvPr id="60" name="Oval 8"/>
                  <p:cNvSpPr/>
                  <p:nvPr/>
                </p:nvSpPr>
                <p:spPr>
                  <a:xfrm>
                    <a:off x="5778720" y="5905080"/>
                    <a:ext cx="617760" cy="5763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Text Box 9"/>
                  <p:cNvSpPr/>
                  <p:nvPr/>
                </p:nvSpPr>
                <p:spPr>
                  <a:xfrm>
                    <a:off x="5856840" y="5905080"/>
                    <a:ext cx="7725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V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" name="Line 57"/>
                <p:cNvSpPr/>
                <p:nvPr/>
              </p:nvSpPr>
              <p:spPr>
                <a:xfrm>
                  <a:off x="5508360" y="6308280"/>
                  <a:ext cx="222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Line 11"/>
              <p:cNvSpPr/>
              <p:nvPr/>
            </p:nvSpPr>
            <p:spPr>
              <a:xfrm flipV="1">
                <a:off x="5033520" y="5444640"/>
                <a:ext cx="0" cy="67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5"/>
              <p:cNvSpPr/>
              <p:nvPr/>
            </p:nvSpPr>
            <p:spPr>
              <a:xfrm>
                <a:off x="5003640" y="6125760"/>
                <a:ext cx="615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386"/>
          <p:cNvGrpSpPr/>
          <p:nvPr/>
        </p:nvGrpSpPr>
        <p:grpSpPr>
          <a:xfrm>
            <a:off x="4067280" y="2924280"/>
            <a:ext cx="4201200" cy="2601000"/>
            <a:chOff x="4067280" y="2924280"/>
            <a:chExt cx="4201200" cy="2601000"/>
          </a:xfrm>
        </p:grpSpPr>
        <p:grpSp>
          <p:nvGrpSpPr>
            <p:cNvPr id="66" name="Group 334"/>
            <p:cNvGrpSpPr/>
            <p:nvPr/>
          </p:nvGrpSpPr>
          <p:grpSpPr>
            <a:xfrm>
              <a:off x="4067280" y="2924280"/>
              <a:ext cx="4201200" cy="2601000"/>
              <a:chOff x="4067280" y="2924280"/>
              <a:chExt cx="4201200" cy="2601000"/>
            </a:xfrm>
          </p:grpSpPr>
          <p:grpSp>
            <p:nvGrpSpPr>
              <p:cNvPr id="67" name="Group 335"/>
              <p:cNvGrpSpPr/>
              <p:nvPr/>
            </p:nvGrpSpPr>
            <p:grpSpPr>
              <a:xfrm>
                <a:off x="7524720" y="3500640"/>
                <a:ext cx="743760" cy="1295280"/>
                <a:chOff x="7524720" y="3500640"/>
                <a:chExt cx="743760" cy="1295280"/>
              </a:xfrm>
            </p:grpSpPr>
            <p:grpSp>
              <p:nvGrpSpPr>
                <p:cNvPr id="68" name="Group 336"/>
                <p:cNvGrpSpPr/>
                <p:nvPr/>
              </p:nvGrpSpPr>
              <p:grpSpPr>
                <a:xfrm>
                  <a:off x="7956000" y="3787920"/>
                  <a:ext cx="223560" cy="238320"/>
                  <a:chOff x="7956000" y="3787920"/>
                  <a:chExt cx="223560" cy="238320"/>
                </a:xfrm>
              </p:grpSpPr>
              <p:sp>
                <p:nvSpPr>
                  <p:cNvPr id="69" name="Line 49"/>
                  <p:cNvSpPr/>
                  <p:nvPr/>
                </p:nvSpPr>
                <p:spPr>
                  <a:xfrm>
                    <a:off x="7956000" y="3901680"/>
                    <a:ext cx="22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50"/>
                  <p:cNvSpPr/>
                  <p:nvPr/>
                </p:nvSpPr>
                <p:spPr>
                  <a:xfrm>
                    <a:off x="8060760" y="3787920"/>
                    <a:ext cx="0" cy="238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" name="Line 57"/>
                <p:cNvSpPr/>
                <p:nvPr/>
              </p:nvSpPr>
              <p:spPr>
                <a:xfrm>
                  <a:off x="7956000" y="4795920"/>
                  <a:ext cx="22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Group 340"/>
                <p:cNvGrpSpPr/>
                <p:nvPr/>
              </p:nvGrpSpPr>
              <p:grpSpPr>
                <a:xfrm>
                  <a:off x="7524720" y="3500640"/>
                  <a:ext cx="743760" cy="1166040"/>
                  <a:chOff x="7524720" y="3500640"/>
                  <a:chExt cx="743760" cy="1166040"/>
                </a:xfrm>
              </p:grpSpPr>
              <p:sp>
                <p:nvSpPr>
                  <p:cNvPr id="73" name="Line 46"/>
                  <p:cNvSpPr/>
                  <p:nvPr/>
                </p:nvSpPr>
                <p:spPr>
                  <a:xfrm flipV="1">
                    <a:off x="7884720" y="3500640"/>
                    <a:ext cx="0" cy="606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Group 23"/>
                  <p:cNvGrpSpPr/>
                  <p:nvPr/>
                </p:nvGrpSpPr>
                <p:grpSpPr>
                  <a:xfrm>
                    <a:off x="7524720" y="4005360"/>
                    <a:ext cx="743760" cy="661320"/>
                    <a:chOff x="7524720" y="4005360"/>
                    <a:chExt cx="743760" cy="661320"/>
                  </a:xfrm>
                </p:grpSpPr>
                <p:sp>
                  <p:nvSpPr>
                    <p:cNvPr id="75" name="Oval 21"/>
                    <p:cNvSpPr/>
                    <p:nvPr/>
                  </p:nvSpPr>
                  <p:spPr>
                    <a:xfrm>
                      <a:off x="7524720" y="4087440"/>
                      <a:ext cx="670320" cy="579240"/>
                    </a:xfrm>
                    <a:prstGeom prst="ellipse">
                      <a:avLst/>
                    </a:prstGeom>
                    <a:solidFill>
                      <a:srgbClr val="0099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Text Box 22"/>
                    <p:cNvSpPr/>
                    <p:nvPr/>
                  </p:nvSpPr>
                  <p:spPr>
                    <a:xfrm>
                      <a:off x="7598520" y="4005360"/>
                      <a:ext cx="6699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" name="Group 345"/>
              <p:cNvGrpSpPr/>
              <p:nvPr/>
            </p:nvGrpSpPr>
            <p:grpSpPr>
              <a:xfrm>
                <a:off x="4067280" y="2924280"/>
                <a:ext cx="3847320" cy="2601000"/>
                <a:chOff x="4067280" y="2924280"/>
                <a:chExt cx="3847320" cy="2601000"/>
              </a:xfrm>
            </p:grpSpPr>
            <p:grpSp>
              <p:nvGrpSpPr>
                <p:cNvPr id="78" name="Group 346"/>
                <p:cNvGrpSpPr/>
                <p:nvPr/>
              </p:nvGrpSpPr>
              <p:grpSpPr>
                <a:xfrm>
                  <a:off x="4067280" y="3141720"/>
                  <a:ext cx="2209320" cy="2232000"/>
                  <a:chOff x="4067280" y="3141720"/>
                  <a:chExt cx="2209320" cy="2232000"/>
                </a:xfrm>
              </p:grpSpPr>
              <p:grpSp>
                <p:nvGrpSpPr>
                  <p:cNvPr id="79" name="Group 347"/>
                  <p:cNvGrpSpPr/>
                  <p:nvPr/>
                </p:nvGrpSpPr>
                <p:grpSpPr>
                  <a:xfrm>
                    <a:off x="4786560" y="3141720"/>
                    <a:ext cx="1490040" cy="647640"/>
                    <a:chOff x="4786560" y="3141720"/>
                    <a:chExt cx="1490040" cy="647640"/>
                  </a:xfrm>
                </p:grpSpPr>
                <p:grpSp>
                  <p:nvGrpSpPr>
                    <p:cNvPr id="80" name="Group 348"/>
                    <p:cNvGrpSpPr/>
                    <p:nvPr/>
                  </p:nvGrpSpPr>
                  <p:grpSpPr>
                    <a:xfrm>
                      <a:off x="6053040" y="3186000"/>
                      <a:ext cx="223560" cy="230040"/>
                      <a:chOff x="6053040" y="3186000"/>
                      <a:chExt cx="223560" cy="230040"/>
                    </a:xfrm>
                  </p:grpSpPr>
                  <p:sp>
                    <p:nvSpPr>
                      <p:cNvPr id="81" name="Line 49"/>
                      <p:cNvSpPr/>
                      <p:nvPr/>
                    </p:nvSpPr>
                    <p:spPr>
                      <a:xfrm>
                        <a:off x="6053040" y="3295440"/>
                        <a:ext cx="2235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" name="Line 50"/>
                      <p:cNvSpPr/>
                      <p:nvPr/>
                    </p:nvSpPr>
                    <p:spPr>
                      <a:xfrm>
                        <a:off x="6157440" y="3186000"/>
                        <a:ext cx="0" cy="23004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" name="Line 51"/>
                    <p:cNvSpPr/>
                    <p:nvPr/>
                  </p:nvSpPr>
                  <p:spPr>
                    <a:xfrm>
                      <a:off x="5837400" y="333036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Line 48"/>
                    <p:cNvSpPr/>
                    <p:nvPr/>
                  </p:nvSpPr>
                  <p:spPr>
                    <a:xfrm>
                      <a:off x="6012000" y="3181320"/>
                      <a:ext cx="0" cy="608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52"/>
                    <p:cNvSpPr/>
                    <p:nvPr/>
                  </p:nvSpPr>
                  <p:spPr>
                    <a:xfrm flipH="1">
                      <a:off x="5535720" y="3456000"/>
                      <a:ext cx="3139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57"/>
                    <p:cNvSpPr/>
                    <p:nvPr/>
                  </p:nvSpPr>
                  <p:spPr>
                    <a:xfrm>
                      <a:off x="5288040" y="3443040"/>
                      <a:ext cx="1472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53"/>
                    <p:cNvSpPr/>
                    <p:nvPr/>
                  </p:nvSpPr>
                  <p:spPr>
                    <a:xfrm>
                      <a:off x="5264280" y="3141720"/>
                      <a:ext cx="0" cy="607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57"/>
                    <p:cNvSpPr/>
                    <p:nvPr/>
                  </p:nvSpPr>
                  <p:spPr>
                    <a:xfrm>
                      <a:off x="4786560" y="3311280"/>
                      <a:ext cx="2235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54"/>
                    <p:cNvSpPr/>
                    <p:nvPr/>
                  </p:nvSpPr>
                  <p:spPr>
                    <a:xfrm>
                      <a:off x="5094360" y="330192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" name="Line 56"/>
                  <p:cNvSpPr/>
                  <p:nvPr/>
                </p:nvSpPr>
                <p:spPr>
                  <a:xfrm flipH="1">
                    <a:off x="4498560" y="3430800"/>
                    <a:ext cx="59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" name="Group 359"/>
                  <p:cNvGrpSpPr/>
                  <p:nvPr/>
                </p:nvGrpSpPr>
                <p:grpSpPr>
                  <a:xfrm>
                    <a:off x="4067280" y="3430440"/>
                    <a:ext cx="431640" cy="1943280"/>
                    <a:chOff x="4067280" y="3430440"/>
                    <a:chExt cx="431640" cy="1943280"/>
                  </a:xfrm>
                </p:grpSpPr>
                <p:sp>
                  <p:nvSpPr>
                    <p:cNvPr id="92" name="Line 55"/>
                    <p:cNvSpPr/>
                    <p:nvPr/>
                  </p:nvSpPr>
                  <p:spPr>
                    <a:xfrm flipV="1">
                      <a:off x="4498920" y="3430440"/>
                      <a:ext cx="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361"/>
                    <p:cNvSpPr/>
                    <p:nvPr/>
                  </p:nvSpPr>
                  <p:spPr>
                    <a:xfrm flipH="1">
                      <a:off x="4354200" y="4078440"/>
                      <a:ext cx="144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Rectangle 362"/>
                    <p:cNvSpPr/>
                    <p:nvPr/>
                  </p:nvSpPr>
                  <p:spPr>
                    <a:xfrm>
                      <a:off x="4067280" y="3789360"/>
                      <a:ext cx="289080" cy="934920"/>
                    </a:xfrm>
                    <a:prstGeom prst="rect">
                      <a:avLst/>
                    </a:prstGeom>
                    <a:solidFill>
                      <a:srgbClr val="3333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363"/>
                    <p:cNvSpPr/>
                    <p:nvPr/>
                  </p:nvSpPr>
                  <p:spPr>
                    <a:xfrm>
                      <a:off x="4211640" y="4726080"/>
                      <a:ext cx="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" name="Line 41"/>
                <p:cNvSpPr/>
                <p:nvPr/>
              </p:nvSpPr>
              <p:spPr>
                <a:xfrm flipV="1">
                  <a:off x="7810560" y="4653000"/>
                  <a:ext cx="0" cy="71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Group 365"/>
                <p:cNvGrpSpPr/>
                <p:nvPr/>
              </p:nvGrpSpPr>
              <p:grpSpPr>
                <a:xfrm>
                  <a:off x="4208040" y="2924280"/>
                  <a:ext cx="3706560" cy="2601000"/>
                  <a:chOff x="4208040" y="2924280"/>
                  <a:chExt cx="3706560" cy="2601000"/>
                </a:xfrm>
              </p:grpSpPr>
              <p:grpSp>
                <p:nvGrpSpPr>
                  <p:cNvPr id="98" name="Group 366"/>
                  <p:cNvGrpSpPr/>
                  <p:nvPr/>
                </p:nvGrpSpPr>
                <p:grpSpPr>
                  <a:xfrm>
                    <a:off x="4208040" y="2924280"/>
                    <a:ext cx="3706560" cy="2449080"/>
                    <a:chOff x="4208040" y="2924280"/>
                    <a:chExt cx="3706560" cy="2449080"/>
                  </a:xfrm>
                </p:grpSpPr>
                <p:grpSp>
                  <p:nvGrpSpPr>
                    <p:cNvPr id="99" name="Group 367"/>
                    <p:cNvGrpSpPr/>
                    <p:nvPr/>
                  </p:nvGrpSpPr>
                  <p:grpSpPr>
                    <a:xfrm>
                      <a:off x="4208040" y="2924280"/>
                      <a:ext cx="3706560" cy="2449080"/>
                      <a:chOff x="4208040" y="2924280"/>
                      <a:chExt cx="3706560" cy="2449080"/>
                    </a:xfrm>
                  </p:grpSpPr>
                  <p:sp>
                    <p:nvSpPr>
                      <p:cNvPr id="100" name="Line 40"/>
                      <p:cNvSpPr/>
                      <p:nvPr/>
                    </p:nvSpPr>
                    <p:spPr>
                      <a:xfrm flipH="1">
                        <a:off x="4208040" y="5373360"/>
                        <a:ext cx="14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1" name="Group 369"/>
                      <p:cNvGrpSpPr/>
                      <p:nvPr/>
                    </p:nvGrpSpPr>
                    <p:grpSpPr>
                      <a:xfrm>
                        <a:off x="6008040" y="2924280"/>
                        <a:ext cx="1906560" cy="695880"/>
                        <a:chOff x="6008040" y="2924280"/>
                        <a:chExt cx="1906560" cy="695880"/>
                      </a:xfrm>
                    </p:grpSpPr>
                    <p:grpSp>
                      <p:nvGrpSpPr>
                        <p:cNvPr id="102" name="Group 370"/>
                        <p:cNvGrpSpPr/>
                        <p:nvPr/>
                      </p:nvGrpSpPr>
                      <p:grpSpPr>
                        <a:xfrm>
                          <a:off x="6008040" y="3283920"/>
                          <a:ext cx="1906560" cy="336240"/>
                          <a:chOff x="6008040" y="3283920"/>
                          <a:chExt cx="1906560" cy="336240"/>
                        </a:xfrm>
                      </p:grpSpPr>
                      <p:sp>
                        <p:nvSpPr>
                          <p:cNvPr id="103" name="Line 55"/>
                          <p:cNvSpPr/>
                          <p:nvPr/>
                        </p:nvSpPr>
                        <p:spPr>
                          <a:xfrm flipH="1">
                            <a:off x="6008040" y="3482280"/>
                            <a:ext cx="5950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Line 47"/>
                          <p:cNvSpPr/>
                          <p:nvPr/>
                        </p:nvSpPr>
                        <p:spPr>
                          <a:xfrm flipH="1">
                            <a:off x="7044480" y="3510720"/>
                            <a:ext cx="8701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373"/>
                          <p:cNvSpPr/>
                          <p:nvPr/>
                        </p:nvSpPr>
                        <p:spPr>
                          <a:xfrm flipH="1">
                            <a:off x="6967800" y="3467880"/>
                            <a:ext cx="147960" cy="152280"/>
                          </a:xfrm>
                          <a:prstGeom prst="flowChartConnector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374"/>
                          <p:cNvSpPr/>
                          <p:nvPr/>
                        </p:nvSpPr>
                        <p:spPr>
                          <a:xfrm flipH="1">
                            <a:off x="6607440" y="3436200"/>
                            <a:ext cx="147960" cy="151920"/>
                          </a:xfrm>
                          <a:prstGeom prst="flowChartConnector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Line 55"/>
                          <p:cNvSpPr/>
                          <p:nvPr/>
                        </p:nvSpPr>
                        <p:spPr>
                          <a:xfrm flipV="1">
                            <a:off x="6681240" y="3283920"/>
                            <a:ext cx="373320" cy="2264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8" name="Text Box 376"/>
                        <p:cNvSpPr/>
                        <p:nvPr/>
                      </p:nvSpPr>
                      <p:spPr>
                        <a:xfrm>
                          <a:off x="6367320" y="2924280"/>
                          <a:ext cx="504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Text Box 377"/>
                        <p:cNvSpPr/>
                        <p:nvPr/>
                      </p:nvSpPr>
                      <p:spPr>
                        <a:xfrm>
                          <a:off x="6872040" y="2924280"/>
                          <a:ext cx="5032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" name="Text Box 378"/>
                    <p:cNvSpPr/>
                    <p:nvPr/>
                  </p:nvSpPr>
                  <p:spPr>
                    <a:xfrm>
                      <a:off x="4857480" y="4868640"/>
                      <a:ext cx="503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Text Box 379"/>
                    <p:cNvSpPr/>
                    <p:nvPr/>
                  </p:nvSpPr>
                  <p:spPr>
                    <a:xfrm>
                      <a:off x="6873840" y="4868640"/>
                      <a:ext cx="503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" name="Line 39"/>
                  <p:cNvSpPr/>
                  <p:nvPr/>
                </p:nvSpPr>
                <p:spPr>
                  <a:xfrm>
                    <a:off x="6584760" y="5371920"/>
                    <a:ext cx="1190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" name="Group 14"/>
                  <p:cNvGrpSpPr/>
                  <p:nvPr/>
                </p:nvGrpSpPr>
                <p:grpSpPr>
                  <a:xfrm>
                    <a:off x="5649840" y="4724280"/>
                    <a:ext cx="948960" cy="801000"/>
                    <a:chOff x="5649840" y="4724280"/>
                    <a:chExt cx="948960" cy="801000"/>
                  </a:xfrm>
                </p:grpSpPr>
                <p:sp>
                  <p:nvSpPr>
                    <p:cNvPr id="114" name="Rectangle 12"/>
                    <p:cNvSpPr/>
                    <p:nvPr/>
                  </p:nvSpPr>
                  <p:spPr>
                    <a:xfrm>
                      <a:off x="5649840" y="5284080"/>
                      <a:ext cx="948960" cy="241200"/>
                    </a:xfrm>
                    <a:prstGeom prst="rect">
                      <a:avLst/>
                    </a:prstGeom>
                    <a:solidFill>
                      <a:srgbClr val="3333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Text Box 13"/>
                    <p:cNvSpPr/>
                    <p:nvPr/>
                  </p:nvSpPr>
                  <p:spPr>
                    <a:xfrm>
                      <a:off x="5808240" y="4724280"/>
                      <a:ext cx="7905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16" name="AutoShape 384"/>
            <p:cNvSpPr/>
            <p:nvPr/>
          </p:nvSpPr>
          <p:spPr>
            <a:xfrm flipH="1">
              <a:off x="5002920" y="5300640"/>
              <a:ext cx="1472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85"/>
            <p:cNvSpPr/>
            <p:nvPr/>
          </p:nvSpPr>
          <p:spPr>
            <a:xfrm flipH="1">
              <a:off x="7018920" y="5300640"/>
              <a:ext cx="1472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387"/>
          <p:cNvSpPr/>
          <p:nvPr/>
        </p:nvSpPr>
        <p:spPr>
          <a:xfrm>
            <a:off x="4067280" y="1197000"/>
            <a:ext cx="4105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им точкам нужно подключить ВОЛЬТМЕТР, чтобы измерить напряжение на резист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solidFill>
            <a:srgbClr val="ffaa7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ическое сопрот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87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ическое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проводника от его длины, площади поперечного сечения и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ельное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578-581A-4A27-9696-379114EE7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09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19" descr="Untitled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317840" y="0"/>
            <a:ext cx="482616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888"/>
          <p:cNvGrpSpPr/>
          <p:nvPr/>
        </p:nvGrpSpPr>
        <p:grpSpPr>
          <a:xfrm>
            <a:off x="611280" y="2997360"/>
            <a:ext cx="4201200" cy="3269520"/>
            <a:chOff x="611280" y="2997360"/>
            <a:chExt cx="4201200" cy="3269520"/>
          </a:xfrm>
        </p:grpSpPr>
        <p:grpSp>
          <p:nvGrpSpPr>
            <p:cNvPr id="126" name="Group 2831"/>
            <p:cNvGrpSpPr/>
            <p:nvPr/>
          </p:nvGrpSpPr>
          <p:grpSpPr>
            <a:xfrm>
              <a:off x="2555640" y="3141720"/>
              <a:ext cx="1905840" cy="336600"/>
              <a:chOff x="2555640" y="3141720"/>
              <a:chExt cx="1905840" cy="336600"/>
            </a:xfrm>
          </p:grpSpPr>
          <p:sp>
            <p:nvSpPr>
              <p:cNvPr id="127" name="Line 55"/>
              <p:cNvSpPr/>
              <p:nvPr/>
            </p:nvSpPr>
            <p:spPr>
              <a:xfrm flipH="1">
                <a:off x="2555640" y="3340080"/>
                <a:ext cx="59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7"/>
              <p:cNvSpPr/>
              <p:nvPr/>
            </p:nvSpPr>
            <p:spPr>
              <a:xfrm flipH="1">
                <a:off x="3591720" y="3368520"/>
                <a:ext cx="86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2834"/>
              <p:cNvSpPr/>
              <p:nvPr/>
            </p:nvSpPr>
            <p:spPr>
              <a:xfrm flipH="1">
                <a:off x="3515400" y="3325680"/>
                <a:ext cx="147600" cy="1526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2835"/>
              <p:cNvSpPr/>
              <p:nvPr/>
            </p:nvSpPr>
            <p:spPr>
              <a:xfrm flipH="1">
                <a:off x="3155040" y="3294000"/>
                <a:ext cx="14760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5"/>
              <p:cNvSpPr/>
              <p:nvPr/>
            </p:nvSpPr>
            <p:spPr>
              <a:xfrm flipV="1">
                <a:off x="3228120" y="3141720"/>
                <a:ext cx="372960" cy="22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837"/>
            <p:cNvGrpSpPr/>
            <p:nvPr/>
          </p:nvGrpSpPr>
          <p:grpSpPr>
            <a:xfrm>
              <a:off x="4068720" y="3357720"/>
              <a:ext cx="743760" cy="1295280"/>
              <a:chOff x="4068720" y="3357720"/>
              <a:chExt cx="743760" cy="1295280"/>
            </a:xfrm>
          </p:grpSpPr>
          <p:grpSp>
            <p:nvGrpSpPr>
              <p:cNvPr id="133" name="Group 2838"/>
              <p:cNvGrpSpPr/>
              <p:nvPr/>
            </p:nvGrpSpPr>
            <p:grpSpPr>
              <a:xfrm>
                <a:off x="4500000" y="3645000"/>
                <a:ext cx="223560" cy="238320"/>
                <a:chOff x="4500000" y="3645000"/>
                <a:chExt cx="223560" cy="238320"/>
              </a:xfrm>
            </p:grpSpPr>
            <p:sp>
              <p:nvSpPr>
                <p:cNvPr id="134" name="Line 49"/>
                <p:cNvSpPr/>
                <p:nvPr/>
              </p:nvSpPr>
              <p:spPr>
                <a:xfrm>
                  <a:off x="4500000" y="3758760"/>
                  <a:ext cx="223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0"/>
                <p:cNvSpPr/>
                <p:nvPr/>
              </p:nvSpPr>
              <p:spPr>
                <a:xfrm>
                  <a:off x="4604760" y="3645000"/>
                  <a:ext cx="0" cy="238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57"/>
              <p:cNvSpPr/>
              <p:nvPr/>
            </p:nvSpPr>
            <p:spPr>
              <a:xfrm>
                <a:off x="4500000" y="4653000"/>
                <a:ext cx="22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2842"/>
              <p:cNvGrpSpPr/>
              <p:nvPr/>
            </p:nvGrpSpPr>
            <p:grpSpPr>
              <a:xfrm>
                <a:off x="4068720" y="3357720"/>
                <a:ext cx="743760" cy="1166040"/>
                <a:chOff x="4068720" y="3357720"/>
                <a:chExt cx="743760" cy="1166040"/>
              </a:xfrm>
            </p:grpSpPr>
            <p:sp>
              <p:nvSpPr>
                <p:cNvPr id="138" name="Line 46"/>
                <p:cNvSpPr/>
                <p:nvPr/>
              </p:nvSpPr>
              <p:spPr>
                <a:xfrm flipV="1">
                  <a:off x="4428720" y="3357720"/>
                  <a:ext cx="0" cy="60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23"/>
                <p:cNvGrpSpPr/>
                <p:nvPr/>
              </p:nvGrpSpPr>
              <p:grpSpPr>
                <a:xfrm>
                  <a:off x="4068720" y="3862440"/>
                  <a:ext cx="743760" cy="661320"/>
                  <a:chOff x="4068720" y="3862440"/>
                  <a:chExt cx="743760" cy="661320"/>
                </a:xfrm>
              </p:grpSpPr>
              <p:sp>
                <p:nvSpPr>
                  <p:cNvPr id="140" name="Oval 21"/>
                  <p:cNvSpPr/>
                  <p:nvPr/>
                </p:nvSpPr>
                <p:spPr>
                  <a:xfrm>
                    <a:off x="4068720" y="3944520"/>
                    <a:ext cx="670320" cy="57924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Text Box 22"/>
                  <p:cNvSpPr/>
                  <p:nvPr/>
                </p:nvSpPr>
                <p:spPr>
                  <a:xfrm>
                    <a:off x="4142520" y="3862440"/>
                    <a:ext cx="6699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" name="Group 2847"/>
            <p:cNvGrpSpPr/>
            <p:nvPr/>
          </p:nvGrpSpPr>
          <p:grpSpPr>
            <a:xfrm>
              <a:off x="611280" y="2997360"/>
              <a:ext cx="2209320" cy="2232000"/>
              <a:chOff x="611280" y="2997360"/>
              <a:chExt cx="2209320" cy="2232000"/>
            </a:xfrm>
          </p:grpSpPr>
          <p:grpSp>
            <p:nvGrpSpPr>
              <p:cNvPr id="143" name="Group 2848"/>
              <p:cNvGrpSpPr/>
              <p:nvPr/>
            </p:nvGrpSpPr>
            <p:grpSpPr>
              <a:xfrm>
                <a:off x="1330560" y="2997360"/>
                <a:ext cx="1490040" cy="647640"/>
                <a:chOff x="1330560" y="2997360"/>
                <a:chExt cx="1490040" cy="647640"/>
              </a:xfrm>
            </p:grpSpPr>
            <p:grpSp>
              <p:nvGrpSpPr>
                <p:cNvPr id="144" name="Group 2849"/>
                <p:cNvGrpSpPr/>
                <p:nvPr/>
              </p:nvGrpSpPr>
              <p:grpSpPr>
                <a:xfrm>
                  <a:off x="2597040" y="3041640"/>
                  <a:ext cx="223560" cy="230040"/>
                  <a:chOff x="2597040" y="3041640"/>
                  <a:chExt cx="223560" cy="230040"/>
                </a:xfrm>
              </p:grpSpPr>
              <p:sp>
                <p:nvSpPr>
                  <p:cNvPr id="145" name="Line 49"/>
                  <p:cNvSpPr/>
                  <p:nvPr/>
                </p:nvSpPr>
                <p:spPr>
                  <a:xfrm>
                    <a:off x="2597040" y="3151080"/>
                    <a:ext cx="223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50"/>
                  <p:cNvSpPr/>
                  <p:nvPr/>
                </p:nvSpPr>
                <p:spPr>
                  <a:xfrm>
                    <a:off x="2701440" y="3041640"/>
                    <a:ext cx="0" cy="230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Line 51"/>
                <p:cNvSpPr/>
                <p:nvPr/>
              </p:nvSpPr>
              <p:spPr>
                <a:xfrm>
                  <a:off x="2381400" y="3186000"/>
                  <a:ext cx="0" cy="30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2556000" y="3036960"/>
                  <a:ext cx="0" cy="608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52"/>
                <p:cNvSpPr/>
                <p:nvPr/>
              </p:nvSpPr>
              <p:spPr>
                <a:xfrm flipH="1">
                  <a:off x="2079720" y="3311640"/>
                  <a:ext cx="313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57"/>
                <p:cNvSpPr/>
                <p:nvPr/>
              </p:nvSpPr>
              <p:spPr>
                <a:xfrm>
                  <a:off x="1832040" y="3298680"/>
                  <a:ext cx="147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3"/>
                <p:cNvSpPr/>
                <p:nvPr/>
              </p:nvSpPr>
              <p:spPr>
                <a:xfrm>
                  <a:off x="1808280" y="2997360"/>
                  <a:ext cx="0" cy="60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57"/>
                <p:cNvSpPr/>
                <p:nvPr/>
              </p:nvSpPr>
              <p:spPr>
                <a:xfrm>
                  <a:off x="1330560" y="3166920"/>
                  <a:ext cx="223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54"/>
                <p:cNvSpPr/>
                <p:nvPr/>
              </p:nvSpPr>
              <p:spPr>
                <a:xfrm>
                  <a:off x="1638360" y="3157560"/>
                  <a:ext cx="0" cy="30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56"/>
              <p:cNvSpPr/>
              <p:nvPr/>
            </p:nvSpPr>
            <p:spPr>
              <a:xfrm flipH="1">
                <a:off x="1042560" y="3286440"/>
                <a:ext cx="59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Group 2860"/>
              <p:cNvGrpSpPr/>
              <p:nvPr/>
            </p:nvGrpSpPr>
            <p:grpSpPr>
              <a:xfrm>
                <a:off x="611280" y="3286080"/>
                <a:ext cx="431640" cy="1943280"/>
                <a:chOff x="611280" y="3286080"/>
                <a:chExt cx="431640" cy="1943280"/>
              </a:xfrm>
            </p:grpSpPr>
            <p:sp>
              <p:nvSpPr>
                <p:cNvPr id="156" name="Line 55"/>
                <p:cNvSpPr/>
                <p:nvPr/>
              </p:nvSpPr>
              <p:spPr>
                <a:xfrm flipV="1">
                  <a:off x="1042920" y="3286080"/>
                  <a:ext cx="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862"/>
                <p:cNvSpPr/>
                <p:nvPr/>
              </p:nvSpPr>
              <p:spPr>
                <a:xfrm flipH="1">
                  <a:off x="898200" y="393408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2863"/>
                <p:cNvSpPr/>
                <p:nvPr/>
              </p:nvSpPr>
              <p:spPr>
                <a:xfrm>
                  <a:off x="611280" y="3645000"/>
                  <a:ext cx="289080" cy="9349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2864"/>
                <p:cNvSpPr/>
                <p:nvPr/>
              </p:nvSpPr>
              <p:spPr>
                <a:xfrm>
                  <a:off x="755640" y="4581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Line 41"/>
            <p:cNvSpPr/>
            <p:nvPr/>
          </p:nvSpPr>
          <p:spPr>
            <a:xfrm flipV="1">
              <a:off x="4356000" y="451008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866"/>
            <p:cNvGrpSpPr/>
            <p:nvPr/>
          </p:nvGrpSpPr>
          <p:grpSpPr>
            <a:xfrm>
              <a:off x="755640" y="4581720"/>
              <a:ext cx="3567960" cy="1685160"/>
              <a:chOff x="755640" y="4581720"/>
              <a:chExt cx="3567960" cy="1685160"/>
            </a:xfrm>
          </p:grpSpPr>
          <p:grpSp>
            <p:nvGrpSpPr>
              <p:cNvPr id="162" name="Group 2867"/>
              <p:cNvGrpSpPr/>
              <p:nvPr/>
            </p:nvGrpSpPr>
            <p:grpSpPr>
              <a:xfrm>
                <a:off x="1640880" y="5186520"/>
                <a:ext cx="2144880" cy="1080360"/>
                <a:chOff x="1640880" y="5186520"/>
                <a:chExt cx="2144880" cy="1080360"/>
              </a:xfrm>
            </p:grpSpPr>
            <p:sp>
              <p:nvSpPr>
                <p:cNvPr id="163" name="AutoShape 2868"/>
                <p:cNvSpPr/>
                <p:nvPr/>
              </p:nvSpPr>
              <p:spPr>
                <a:xfrm flipH="1">
                  <a:off x="1640880" y="5196240"/>
                  <a:ext cx="1468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11"/>
                <p:cNvSpPr/>
                <p:nvPr/>
              </p:nvSpPr>
              <p:spPr>
                <a:xfrm flipV="1">
                  <a:off x="1688040" y="5248440"/>
                  <a:ext cx="0" cy="67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"/>
                <p:cNvSpPr/>
                <p:nvPr/>
              </p:nvSpPr>
              <p:spPr>
                <a:xfrm>
                  <a:off x="1681560" y="59389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Group 2871"/>
                <p:cNvGrpSpPr/>
                <p:nvPr/>
              </p:nvGrpSpPr>
              <p:grpSpPr>
                <a:xfrm>
                  <a:off x="2046960" y="5186520"/>
                  <a:ext cx="1738800" cy="1080360"/>
                  <a:chOff x="2046960" y="5186520"/>
                  <a:chExt cx="1738800" cy="1080360"/>
                </a:xfrm>
              </p:grpSpPr>
              <p:sp>
                <p:nvSpPr>
                  <p:cNvPr id="167" name="AutoShape 2872"/>
                  <p:cNvSpPr/>
                  <p:nvPr/>
                </p:nvSpPr>
                <p:spPr>
                  <a:xfrm flipH="1">
                    <a:off x="3638160" y="5186520"/>
                    <a:ext cx="147240" cy="15228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0"/>
                  <p:cNvSpPr/>
                  <p:nvPr/>
                </p:nvSpPr>
                <p:spPr>
                  <a:xfrm flipV="1">
                    <a:off x="3686400" y="5238360"/>
                    <a:ext cx="0" cy="673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6"/>
                  <p:cNvSpPr/>
                  <p:nvPr/>
                </p:nvSpPr>
                <p:spPr>
                  <a:xfrm>
                    <a:off x="2940480" y="5913720"/>
                    <a:ext cx="767160" cy="8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0" name="Group 2875"/>
                  <p:cNvGrpSpPr/>
                  <p:nvPr/>
                </p:nvGrpSpPr>
                <p:grpSpPr>
                  <a:xfrm>
                    <a:off x="3013920" y="5990760"/>
                    <a:ext cx="222840" cy="229320"/>
                    <a:chOff x="3013920" y="5990760"/>
                    <a:chExt cx="222840" cy="229320"/>
                  </a:xfrm>
                </p:grpSpPr>
                <p:sp>
                  <p:nvSpPr>
                    <p:cNvPr id="171" name="Line 49"/>
                    <p:cNvSpPr/>
                    <p:nvPr/>
                  </p:nvSpPr>
                  <p:spPr>
                    <a:xfrm>
                      <a:off x="3013920" y="6100200"/>
                      <a:ext cx="2228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50"/>
                    <p:cNvSpPr/>
                    <p:nvPr/>
                  </p:nvSpPr>
                  <p:spPr>
                    <a:xfrm>
                      <a:off x="3118320" y="5990760"/>
                      <a:ext cx="0" cy="2293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" name="Group 2878"/>
                  <p:cNvGrpSpPr/>
                  <p:nvPr/>
                </p:nvGrpSpPr>
                <p:grpSpPr>
                  <a:xfrm>
                    <a:off x="2046960" y="5685480"/>
                    <a:ext cx="1120680" cy="581400"/>
                    <a:chOff x="2046960" y="5685480"/>
                    <a:chExt cx="1120680" cy="581400"/>
                  </a:xfrm>
                </p:grpSpPr>
                <p:grpSp>
                  <p:nvGrpSpPr>
                    <p:cNvPr id="174" name="Group 7"/>
                    <p:cNvGrpSpPr/>
                    <p:nvPr/>
                  </p:nvGrpSpPr>
                  <p:grpSpPr>
                    <a:xfrm>
                      <a:off x="2316960" y="5685480"/>
                      <a:ext cx="850680" cy="581400"/>
                      <a:chOff x="2316960" y="5685480"/>
                      <a:chExt cx="850680" cy="581400"/>
                    </a:xfrm>
                  </p:grpSpPr>
                  <p:sp>
                    <p:nvSpPr>
                      <p:cNvPr id="175" name="Oval 8"/>
                      <p:cNvSpPr/>
                      <p:nvPr/>
                    </p:nvSpPr>
                    <p:spPr>
                      <a:xfrm>
                        <a:off x="2316960" y="5685480"/>
                        <a:ext cx="617760" cy="576720"/>
                      </a:xfrm>
                      <a:prstGeom prst="ellipse">
                        <a:avLst/>
                      </a:prstGeom>
                      <a:solidFill>
                        <a:srgbClr val="0099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Text Box 9"/>
                      <p:cNvSpPr/>
                      <p:nvPr/>
                    </p:nvSpPr>
                    <p:spPr>
                      <a:xfrm>
                        <a:off x="2395080" y="5685480"/>
                        <a:ext cx="77256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2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V</a:t>
                        </a: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" name="Line 57"/>
                    <p:cNvSpPr/>
                    <p:nvPr/>
                  </p:nvSpPr>
                  <p:spPr>
                    <a:xfrm>
                      <a:off x="2046960" y="6089040"/>
                      <a:ext cx="2224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8" name="Line 39"/>
              <p:cNvSpPr/>
              <p:nvPr/>
            </p:nvSpPr>
            <p:spPr>
              <a:xfrm>
                <a:off x="3133440" y="5234040"/>
                <a:ext cx="119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40"/>
              <p:cNvSpPr/>
              <p:nvPr/>
            </p:nvSpPr>
            <p:spPr>
              <a:xfrm flipH="1">
                <a:off x="755640" y="5237280"/>
                <a:ext cx="14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4"/>
              <p:cNvGrpSpPr/>
              <p:nvPr/>
            </p:nvGrpSpPr>
            <p:grpSpPr>
              <a:xfrm>
                <a:off x="2231640" y="4581720"/>
                <a:ext cx="948600" cy="801360"/>
                <a:chOff x="2231640" y="4581720"/>
                <a:chExt cx="948600" cy="801360"/>
              </a:xfrm>
            </p:grpSpPr>
            <p:sp>
              <p:nvSpPr>
                <p:cNvPr id="181" name="Rectangle 12"/>
                <p:cNvSpPr/>
                <p:nvPr/>
              </p:nvSpPr>
              <p:spPr>
                <a:xfrm>
                  <a:off x="2231640" y="5141880"/>
                  <a:ext cx="948600" cy="24120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3"/>
                <p:cNvSpPr/>
                <p:nvPr/>
              </p:nvSpPr>
              <p:spPr>
                <a:xfrm>
                  <a:off x="2390040" y="4581720"/>
                  <a:ext cx="790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Text Box 2890"/>
          <p:cNvSpPr/>
          <p:nvPr/>
        </p:nvSpPr>
        <p:spPr>
          <a:xfrm>
            <a:off x="5292720" y="3789360"/>
            <a:ext cx="33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менять силу тока в цепи и измерять напряжение на участке, где включен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зис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91"/>
          <p:cNvSpPr/>
          <p:nvPr/>
        </p:nvSpPr>
        <p:spPr>
          <a:xfrm>
            <a:off x="611280" y="333360"/>
            <a:ext cx="338436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рения проводим с тремя резисторами: 1.Медный                  2.Железный       3.Никели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E06-DA85-45B0-AA32-1D86B3578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7"/>
          <p:cNvSpPr/>
          <p:nvPr/>
        </p:nvSpPr>
        <p:spPr>
          <a:xfrm>
            <a:off x="395280" y="333360"/>
            <a:ext cx="8424720" cy="626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6920" y="2492280"/>
            <a:ext cx="3456000" cy="28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В   0   0,4   0,8  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А   0   0,4   0,8  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В   0   0,4   0,8  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А   0   0,2   0,4   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В   0   0,4   0,8  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А   0   0,1   0,2   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0"/>
              <p:cNvSpPr txBox="1"/>
              <p:nvPr/>
            </p:nvSpPr>
            <p:spPr>
              <a:xfrm>
                <a:off x="4643280" y="2565360"/>
                <a:ext cx="3527640" cy="28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0" name="Group 29"/>
          <p:cNvGrpSpPr/>
          <p:nvPr/>
        </p:nvGrpSpPr>
        <p:grpSpPr>
          <a:xfrm>
            <a:off x="1258920" y="2565360"/>
            <a:ext cx="2808360" cy="863640"/>
            <a:chOff x="1258920" y="2565360"/>
            <a:chExt cx="2808360" cy="863640"/>
          </a:xfrm>
        </p:grpSpPr>
        <p:sp>
          <p:nvSpPr>
            <p:cNvPr id="191" name="Line 30"/>
            <p:cNvSpPr/>
            <p:nvPr/>
          </p:nvSpPr>
          <p:spPr>
            <a:xfrm>
              <a:off x="1258920" y="29970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1835280" y="2565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2"/>
            <p:cNvSpPr/>
            <p:nvPr/>
          </p:nvSpPr>
          <p:spPr>
            <a:xfrm>
              <a:off x="2266920" y="2565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2843280" y="2565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3490920" y="25653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35"/>
          <p:cNvSpPr/>
          <p:nvPr/>
        </p:nvSpPr>
        <p:spPr>
          <a:xfrm>
            <a:off x="611280" y="119700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измерений с тремя резистор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0" descr="Untitled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317840" y="0"/>
            <a:ext cx="4826160" cy="2494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1"/>
          <p:cNvSpPr/>
          <p:nvPr/>
        </p:nvSpPr>
        <p:spPr>
          <a:xfrm>
            <a:off x="395280" y="5445000"/>
            <a:ext cx="8424720" cy="1130040"/>
          </a:xfrm>
          <a:prstGeom prst="rect">
            <a:avLst/>
          </a:pr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Напряж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рямо пропорциональ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ле ток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Сопротивление определяется формулой :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Ч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ольш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8"/>
          <p:cNvGrpSpPr/>
          <p:nvPr/>
        </p:nvGrpSpPr>
        <p:grpSpPr>
          <a:xfrm>
            <a:off x="1258920" y="3573360"/>
            <a:ext cx="2808360" cy="863640"/>
            <a:chOff x="1258920" y="3573360"/>
            <a:chExt cx="2808360" cy="863640"/>
          </a:xfrm>
        </p:grpSpPr>
        <p:sp>
          <p:nvSpPr>
            <p:cNvPr id="200" name="Line 49"/>
            <p:cNvSpPr/>
            <p:nvPr/>
          </p:nvSpPr>
          <p:spPr>
            <a:xfrm>
              <a:off x="1258920" y="40050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0"/>
            <p:cNvSpPr/>
            <p:nvPr/>
          </p:nvSpPr>
          <p:spPr>
            <a:xfrm>
              <a:off x="1835280" y="35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2266920" y="35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2"/>
            <p:cNvSpPr/>
            <p:nvPr/>
          </p:nvSpPr>
          <p:spPr>
            <a:xfrm>
              <a:off x="2843280" y="35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3490920" y="35733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4"/>
          <p:cNvGrpSpPr/>
          <p:nvPr/>
        </p:nvGrpSpPr>
        <p:grpSpPr>
          <a:xfrm>
            <a:off x="1258920" y="4508640"/>
            <a:ext cx="2808360" cy="863640"/>
            <a:chOff x="1258920" y="4508640"/>
            <a:chExt cx="2808360" cy="863640"/>
          </a:xfrm>
        </p:grpSpPr>
        <p:sp>
          <p:nvSpPr>
            <p:cNvPr id="206" name="Line 55"/>
            <p:cNvSpPr/>
            <p:nvPr/>
          </p:nvSpPr>
          <p:spPr>
            <a:xfrm>
              <a:off x="1258920" y="4940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6"/>
            <p:cNvSpPr/>
            <p:nvPr/>
          </p:nvSpPr>
          <p:spPr>
            <a:xfrm>
              <a:off x="1835280" y="450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57"/>
            <p:cNvSpPr/>
            <p:nvPr/>
          </p:nvSpPr>
          <p:spPr>
            <a:xfrm>
              <a:off x="2266920" y="450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8"/>
            <p:cNvSpPr/>
            <p:nvPr/>
          </p:nvSpPr>
          <p:spPr>
            <a:xfrm>
              <a:off x="2843280" y="450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9"/>
            <p:cNvSpPr/>
            <p:nvPr/>
          </p:nvSpPr>
          <p:spPr>
            <a:xfrm>
              <a:off x="3490920" y="4508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2"/>
              <p:cNvSpPr txBox="1"/>
              <p:nvPr/>
            </p:nvSpPr>
            <p:spPr>
              <a:xfrm>
                <a:off x="5796000" y="5805360"/>
                <a:ext cx="936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89B-D07A-497D-AA33-EA3CDCAE7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2-2"/>
          <p:cNvPicPr/>
          <p:nvPr/>
        </p:nvPicPr>
        <p:blipFill>
          <a:blip r:embed="rId1"/>
          <a:stretch/>
        </p:blipFill>
        <p:spPr>
          <a:xfrm>
            <a:off x="5580000" y="414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2-2"/>
          <p:cNvPicPr/>
          <p:nvPr/>
        </p:nvPicPr>
        <p:blipFill>
          <a:blip r:embed="rId2"/>
          <a:stretch/>
        </p:blipFill>
        <p:spPr>
          <a:xfrm>
            <a:off x="2771640" y="4149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2-2"/>
          <p:cNvPicPr/>
          <p:nvPr/>
        </p:nvPicPr>
        <p:blipFill>
          <a:blip r:embed="rId3"/>
          <a:stretch/>
        </p:blipFill>
        <p:spPr>
          <a:xfrm>
            <a:off x="277164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BLUEITEM"/>
          <p:cNvPicPr/>
          <p:nvPr/>
        </p:nvPicPr>
        <p:blipFill>
          <a:blip r:embed="rId4"/>
          <a:stretch/>
        </p:blipFill>
        <p:spPr>
          <a:xfrm>
            <a:off x="2868480" y="34527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2-2"/>
          <p:cNvPicPr/>
          <p:nvPr/>
        </p:nvPicPr>
        <p:blipFill>
          <a:blip r:embed="rId5"/>
          <a:stretch/>
        </p:blipFill>
        <p:spPr>
          <a:xfrm>
            <a:off x="5651640" y="558972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2-2"/>
          <p:cNvPicPr/>
          <p:nvPr/>
        </p:nvPicPr>
        <p:blipFill>
          <a:blip r:embed="rId6"/>
          <a:stretch/>
        </p:blipFill>
        <p:spPr>
          <a:xfrm>
            <a:off x="421164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2-2"/>
          <p:cNvPicPr/>
          <p:nvPr/>
        </p:nvPicPr>
        <p:blipFill>
          <a:blip r:embed="rId7"/>
          <a:stretch/>
        </p:blipFill>
        <p:spPr>
          <a:xfrm>
            <a:off x="558000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2-2"/>
          <p:cNvPicPr/>
          <p:nvPr/>
        </p:nvPicPr>
        <p:blipFill>
          <a:blip r:embed="rId8"/>
          <a:stretch/>
        </p:blipFill>
        <p:spPr>
          <a:xfrm>
            <a:off x="4211640" y="4149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2-2"/>
          <p:cNvPicPr/>
          <p:nvPr/>
        </p:nvPicPr>
        <p:blipFill>
          <a:blip r:embed="rId9"/>
          <a:stretch/>
        </p:blipFill>
        <p:spPr>
          <a:xfrm>
            <a:off x="4211640" y="5589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2-2"/>
          <p:cNvPicPr/>
          <p:nvPr/>
        </p:nvPicPr>
        <p:blipFill>
          <a:blip r:embed="rId10"/>
          <a:stretch/>
        </p:blipFill>
        <p:spPr>
          <a:xfrm>
            <a:off x="2771640" y="5589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BLUEITEM"/>
          <p:cNvPicPr/>
          <p:nvPr/>
        </p:nvPicPr>
        <p:blipFill>
          <a:blip r:embed="rId11"/>
          <a:stretch/>
        </p:blipFill>
        <p:spPr>
          <a:xfrm>
            <a:off x="5318280" y="42451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BLUEITEM"/>
          <p:cNvPicPr/>
          <p:nvPr/>
        </p:nvPicPr>
        <p:blipFill>
          <a:blip r:embed="rId12"/>
          <a:stretch/>
        </p:blipFill>
        <p:spPr>
          <a:xfrm rot="21450000">
            <a:off x="3444840" y="32367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BLUEITEM"/>
          <p:cNvPicPr/>
          <p:nvPr/>
        </p:nvPicPr>
        <p:blipFill>
          <a:blip r:embed="rId13"/>
          <a:stretch/>
        </p:blipFill>
        <p:spPr>
          <a:xfrm rot="21403800">
            <a:off x="2887560" y="49669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BLUEITEM"/>
          <p:cNvPicPr/>
          <p:nvPr/>
        </p:nvPicPr>
        <p:blipFill>
          <a:blip r:embed="rId14"/>
          <a:stretch/>
        </p:blipFill>
        <p:spPr>
          <a:xfrm rot="21403800">
            <a:off x="3805200" y="41731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BLUEITEM"/>
          <p:cNvPicPr/>
          <p:nvPr/>
        </p:nvPicPr>
        <p:blipFill>
          <a:blip r:embed="rId15"/>
          <a:stretch/>
        </p:blipFill>
        <p:spPr>
          <a:xfrm rot="21270000">
            <a:off x="5364000" y="530028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BLUEITEM"/>
          <p:cNvPicPr/>
          <p:nvPr/>
        </p:nvPicPr>
        <p:blipFill>
          <a:blip r:embed="rId16"/>
          <a:stretch/>
        </p:blipFill>
        <p:spPr>
          <a:xfrm>
            <a:off x="4859280" y="573408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BLUEITEM"/>
          <p:cNvPicPr/>
          <p:nvPr/>
        </p:nvPicPr>
        <p:blipFill>
          <a:blip r:embed="rId17"/>
          <a:stretch/>
        </p:blipFill>
        <p:spPr>
          <a:xfrm rot="21430200">
            <a:off x="4819680" y="33004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BLUEITEM"/>
          <p:cNvPicPr/>
          <p:nvPr/>
        </p:nvPicPr>
        <p:blipFill>
          <a:blip r:embed="rId18"/>
          <a:stretch/>
        </p:blipFill>
        <p:spPr>
          <a:xfrm>
            <a:off x="3733920" y="51102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BLUEITEM"/>
          <p:cNvPicPr/>
          <p:nvPr/>
        </p:nvPicPr>
        <p:blipFill>
          <a:blip r:embed="rId19"/>
          <a:stretch/>
        </p:blipFill>
        <p:spPr>
          <a:xfrm>
            <a:off x="7667640" y="2565360"/>
            <a:ext cx="380880" cy="41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BLUEITEM"/>
          <p:cNvPicPr/>
          <p:nvPr/>
        </p:nvPicPr>
        <p:blipFill>
          <a:blip r:embed="rId20"/>
          <a:stretch/>
        </p:blipFill>
        <p:spPr>
          <a:xfrm>
            <a:off x="6227640" y="479736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0"/>
          <p:cNvSpPr/>
          <p:nvPr/>
        </p:nvSpPr>
        <p:spPr>
          <a:xfrm>
            <a:off x="7020000" y="32130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, несущий на себе отрицательный за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971640" y="1700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ическая проводимость металлов обусловлена наличием свободных электр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ь строения металлического прово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5" descr="2-2"/>
          <p:cNvPicPr/>
          <p:nvPr/>
        </p:nvPicPr>
        <p:blipFill>
          <a:blip r:embed="rId21"/>
          <a:stretch/>
        </p:blipFill>
        <p:spPr>
          <a:xfrm>
            <a:off x="684360" y="2492280"/>
            <a:ext cx="576000" cy="5637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6"/>
          <p:cNvSpPr/>
          <p:nvPr/>
        </p:nvSpPr>
        <p:spPr>
          <a:xfrm>
            <a:off x="108000" y="328464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 металла, несущий на себе положительный за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7">
            <a:hlinkClick r:id="rId22"/>
          </p:cNvPr>
          <p:cNvSpPr/>
          <p:nvPr/>
        </p:nvSpPr>
        <p:spPr>
          <a:xfrm>
            <a:off x="755640" y="537372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7301"/>
                </a:moveTo>
                <a:lnTo>
                  <a:pt x="8746" y="7301"/>
                </a:lnTo>
                <a:lnTo>
                  <a:pt x="9129" y="7667"/>
                </a:lnTo>
                <a:lnTo>
                  <a:pt x="18337" y="7667"/>
                </a:lnTo>
                <a:lnTo>
                  <a:pt x="18894" y="8224"/>
                </a:lnTo>
                <a:lnTo>
                  <a:pt x="18894" y="8772"/>
                </a:lnTo>
                <a:lnTo>
                  <a:pt x="20739" y="8772"/>
                </a:lnTo>
                <a:lnTo>
                  <a:pt x="21105" y="8224"/>
                </a:lnTo>
                <a:lnTo>
                  <a:pt x="21845" y="8224"/>
                </a:lnTo>
                <a:lnTo>
                  <a:pt x="21845" y="13376"/>
                </a:lnTo>
                <a:lnTo>
                  <a:pt x="21105" y="13376"/>
                </a:lnTo>
                <a:lnTo>
                  <a:pt x="20739" y="12828"/>
                </a:lnTo>
                <a:lnTo>
                  <a:pt x="18894" y="12828"/>
                </a:lnTo>
                <a:lnTo>
                  <a:pt x="18894" y="14107"/>
                </a:lnTo>
                <a:lnTo>
                  <a:pt x="9311" y="14107"/>
                </a:lnTo>
                <a:lnTo>
                  <a:pt x="9311" y="9877"/>
                </a:lnTo>
                <a:lnTo>
                  <a:pt x="9129" y="9877"/>
                </a:lnTo>
                <a:lnTo>
                  <a:pt x="8746" y="10243"/>
                </a:lnTo>
                <a:lnTo>
                  <a:pt x="7832" y="102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34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36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38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40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42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44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46" dur="5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48" dur="5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50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4624E-006 C -0.00121 0.00232 -0.00225 0.00463 0.0033 0.01272 C 0.00886 0.02081 0.02222 0.04972 0.03334 0.04879 C 0.04445 0.04787 0.06354 0.02058 0.06997 0.00648 C 0.07639 -0.00763 0.06528 -0.02381 0.07153 -0.03583 C 0.07778 -0.04786 0.09896 -0.06612 0.10799 -0.06543 C 0.11702 -0.06474 0.12483 -0.02312 0.12552 -0.03167 C 0.12622 -0.04023 0.12031 -0.1015 0.11268 -0.1163 C 0.10504 -0.13109 0.08334 -0.12994 0.07934 -0.12046 C 0.07535 -0.11098 0.0809 -0.07884 0.08889 -0.05919 C 0.09688 -0.03953 0.12361 -0.01872 0.12709 -0.00208 C 0.13056 0.01457 0.11702 0.02081 0.10955 0.04024 C 0.10209 0.05966 0.06997 0.11561 0.08264 0.11422 C 0.09531 0.11284 0.15643 0.03723 0.18577 0.03168 C 0.21511 0.02613 0.24879 0.05573 0.25886 0.08047 C 0.26893 0.10521 0.26215 0.15792 0.24601 0.17966 C 0.22986 0.20139 0.1842 0.22243 0.16198 0.21156 C 0.13976 0.2007 0.1132 0.13503 0.11268 0.11422 C 0.11215 0.09341 0.15417 0.08185 0.15886 0.08671 C 0.16354 0.09156 0.15278 0.1244 0.14132 0.14382 C 0.12986 0.16324 0.09809 0.18474 0.09045 0.20301 C 0.08281 0.22128 0.07709 0.24162 0.09531 0.25365 C 0.11354 0.26567 0.17309 0.26682 0.2 0.27492 C 0.22691 0.28301 0.24722 0.29041 0.25712 0.30243 C 0.26702 0.31445 0.24618 0.35769 0.25886 0.34682 C 0.27153 0.33596 0.31459 0.25272 0.33334 0.23677 C 0.35209 0.22081 0.3658 0.24972 0.37153 0.25156 E">
                                      <p:cBhvr>
                                        <p:cTn id="52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28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54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5 0.00809 C -0.06076 0.00278 -0.05468 -1.96532E-006 -0.04982 -1.96532E-006 C -0.0427 -1.96532E-006 -0.03576 0.00416 -0.03177 0.01087 C -0.01475 0.03746 -0.00173 0.09596 -0.00173 0.16532 C -0.00173 0.16555 -0.00173 0.16648 -0.00173 0.16671 C -0.00173 0.16648 -0.00173 0.16786 -0.00173 0.16809 C -0.00173 0.23723 -0.01475 0.29711 -0.03177 0.3237 C -0.03576 0.32902 -0.0427 0.33295 -0.04982 0.33295 C -0.05468 0.33295 -0.06076 0.33041 -0.06475 0.32509 C -0.06875 0.31977 -0.07083 0.31307 -0.07083 0.30497 C -0.07083 0.29572 -0.0677 0.28786 -0.06267 0.28255 C -0.0427 0.2585 0.00122 0.24116 0.0533 0.24116 C 0.0533 0.24139 0.05417 0.24116 0.05417 0.24139 C 0.05417 0.24116 0.05521 0.24116 0.05521 0.24139 C 0.1073 0.24116 0.15226 0.2585 0.17223 0.28255 C 0.17622 0.28786 0.17917 0.29572 0.17917 0.30497 C 0.17917 0.31307 0.17726 0.31977 0.17327 0.32509 C 0.16927 0.33041 0.16424 0.33295 0.15816 0.33295 C 0.15122 0.33295 0.14532 0.32902 0.14132 0.3237 C 0.12327 0.29711 0.11025 0.23723 0.11025 0.16786 C 0.11025 0.16809 0.11025 0.16648 0.11025 0.16671 C 0.11025 0.16648 0.11025 0.16532 0.11025 0.16555 C 0.11025 0.09596 0.12327 0.03746 0.14132 0.00948 C 0.14532 0.00416 0.15122 -1.96532E-006 0.15816 -1.96532E-006 C 0.16424 -1.96532E-006 0.16927 0.00278 0.17327 0.00809 C 0.17726 0.01341 0.17917 0.0215 0.17917 0.02798 C 0.17917 0.03746 0.17622 0.04532 0.17223 0.05203 C 0.15226 0.07468 0.1073 0.09203 0.05521 0.09203 C 0.05521 0.09226 0.05521 0.09203 0.05417 0.09203 C 0.05417 0.09226 0.0533 0.09203 0.0533 0.09226 C 0.00122 0.09203 -0.0427 0.07468 -0.06267 0.05203 C -0.0677 0.04532 -0.07083 0.03746 -0.07083 0.02798 C -0.07083 0.0215 -0.06875 0.01341 -0.06475 0.00809 Z">
                                      <p:cBhvr>
                                        <p:cTn id="56" dur="5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 0.007 -0.04928 0.015 -0.04928 C 0.024 -0.04928 0.027 -0.0253 0.03 0 C 0.034 0.02797 0.037 0.05594 0.047 0.05594 C 0.056 0.05594 0.059 0.02797 0.063 0 C 0.065 -0.0253 0.069 -0.04928 0.078 -0.04928 C 0.086 -0.04928 0.09 -0.0253 0.093 0 C 0.096 0.02797 0.1 0.05594 0.109 0.05594 C 0.118 0.05594 0.125 0 0.125 0 C 0.128 -0.0253 0.131 -0.04928 0.14 -0.04928 C 0.149 -0.04928 0.152 -0.0253 0.155 0 C 0.159 0.02797 0.162 0.05594 0.172 0.05594 C 0.181 0.05594 0.184 0.02797 0.187 0 C 0.191 -0.0253 0.194 -0.04928 0.203 -0.04928 C 0.211 -0.04928 0.215 -0.0253 0.218 0 C 0.221 0.02797 0.225 0.05594 0.234 0.05594 C 0.243 0.05594 0.246 0.02797 0.25 0 E">
                                      <p:cBhvr>
                                        <p:cTn id="58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5.78035E-008 C 0.00694 -0.01341 0.01406 -0.02798 0.021 -0.04671 C 0.03993 -0.09988 0.04496 -0.15191 0.03107 -0.15977 C 0.01701 -0.16925 -0.01007 -0.13179 -0.029 -0.07861 C -0.03907 -0.05064 -0.04497 -0.02405 -0.04705 -0.00393 C -0.05 0.01202 -0.05105 0.02798 -0.05105 0.04671 C -0.05105 0.10659 -0.03802 0.15584 -0.02292 0.15584 C -0.00799 0.15584 0.00503 0.10659 0.00503 0.04671 C 0.00503 0.01873 0.00208 -0.00809 -0.00296 -0.02659 C -0.00504 -0.04254 -0.01007 -0.05988 -0.01598 -0.07723 C -0.03594 -0.13179 -0.06302 -0.16925 -0.07709 -0.15977 C -0.09098 -0.15052 -0.08594 -0.09988 -0.06598 -0.04532 C -0.05799 -0.01988 -0.04705 0.00139 -0.03594 0.01595 C -0.02796 0.02936 -0.01893 0.04139 -0.00695 0.05318 C 0.02899 0.09179 0.06493 0.10913 0.075 0.09318 C 0.08402 0.07723 0.06406 0.03329 0.02795 -0.00393 C 0.01302 -0.01988 -0.00296 -0.03191 -0.01598 -0.04 C -0.02796 -0.04786 -0.04306 -0.05457 -0.05903 -0.0585 C -0.10296 -0.07191 -0.14098 -0.06798 -0.14393 -0.04671 C -0.14792 -0.02659 -0.11493 -5.78035000003974E-008 -0.07101 0.01341 C -0.05105 0.01873 -0.03195 0.02127 -0.01702 0.01988 C -0.004 0.01988 0.01007 0.01734 0.025 0.01341 C 0.06892 -5.78035000003974E-008 0.10208 -0.02798 0.09791 -0.04786 C 0.09496 -0.06798 0.05694 -0.07329 0.01302 -0.05988 C -0.00799 -0.05318 -0.02709 -0.04393 -0.03993 -0.03329 C -0.05105 -0.0252 -0.06198 -0.01595 -0.07396 -0.00393 C -0.10903 0.03468 -0.13004 0.07723 -0.11997 0.09318 C -0.11094 0.10913 -0.07396 0.09179 -0.03907 0.05457 C -0.02205 0.03607 -0.00799 0.01734 4.16667E-006 -5.78035E-008 Z">
                                      <p:cBhvr>
                                        <p:cTn id="60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6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87 -0.26197 C -0.12586 -0.35122 -0.07586 -0.42844 -0.00885 -0.43376 C 0.05521 -0.44046 0.11511 -0.38058 0.1191 -0.29387 C 0.12414 -0.21411 0.08212 -0.13942 0.02205 -0.13411 C -0.03281 -0.13017 -0.08489 -0.17942 -0.08889 -0.25387 C -0.09288 -0.32185 -0.05781 -0.3859 -0.00694 -0.39122 C 0.04011 -0.39515 0.08421 -0.35376 0.08716 -0.29133 C 0.09011 -0.23538 0.06216 -0.18081 0.02014 -0.17804 C -0.01788 -0.17411 -0.05382 -0.20601 -0.05694 -0.25665 C -0.05885 -0.30197 -0.03784 -0.3459 -0.00486 -0.34844 C 0.02414 -0.35122 0.05313 -0.32717 0.05521 -0.28856 C 0.05712 -0.25526 0.04219 -0.22335 0.01806 -0.22058 C -0.00191 -0.21804 -0.02291 -0.2326 -0.02395 -0.25919 C -0.02586 -0.28069 -0.01788 -0.30335 -0.00295 -0.3059 C 0.00921 -0.3059 0.02118 -0.30058 0.02309 -0.28601 C 0.02414 -0.27653 0.02205 -0.26728 0.01615 -0.26335 C 0.0132 -0.26197 0.01111 -0.26197 0.00816 -0.26335 E">
                                      <p:cBhvr>
                                        <p:cTn id="62" dur="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9087 C 0.00903 -0.03029 -0.00156 -0.15121 0.00555 -0.203 C 0.01267 -0.2548 0.03038 -0.20185 0.06267 -0.21988 C 0.09496 -0.23792 0.1717 -0.30867 0.19913 -0.31075 C 0.22656 -0.31283 0.22673 -0.27029 0.22778 -0.2326 C 0.22882 -0.19491 0.21823 -0.11283 0.20555 -0.08462 C 0.19288 -0.05642 0.1783 -0.07699 0.15156 -0.06335 C 0.12483 -0.04971 0.05382 -0.02011 0.04514 -0.00208 C 0.03646 0.01595 0.08489 0.05041 0.09913 0.04439 C 0.11337 0.03838 0.13281 -0.02682 0.1309 -0.03815 C 0.12899 -0.04948 0.09722 -0.03006 0.08802 -0.02335 C 0.07882 -0.01665 0.05729 -0.0222 0.07535 0.00208 C 0.0934 0.02636 0.17066 0.10081 0.19601 0.12254 C 0.22135 0.14428 0.21528 0.12925 0.22778 0.13318 C 0.24028 0.13711 0.25937 0.14312 0.27066 0.1459 C 0.28194 0.14867 0.28923 0.15029 0.29601 0.15006 C 0.30278 0.14983 0.30625 0.14728 0.3118 0.14382 C 0.31736 0.14035 0.32743 0.13249 0.32934 0.12902 E">
                                      <p:cBhvr>
                                        <p:cTn id="64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0.03954 C 0.01007 0.04023 0.00677 0.04115 0.00573 0.04809 C 0.00469 0.05503 0.01285 0.07191 0.00729 0.08185 C 0.00173 0.09179 -0.01684 0.09803 -0.02761 0.10728 C -0.03837 0.11653 -0.04965 0.13133 -0.05781 0.13688 C -0.06597 0.14243 -0.07188 0.14312 -0.07691 0.14104 C -0.08195 0.13896 -0.09913 0.12439 -0.08802 0.12416 C -0.07691 0.12393 -0.02344 0.13618 -0.01024 0.13896 E">
                                      <p:cBhvr>
                                        <p:cTn id="66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4 -0.00301 C -0.01528 -0.01364 -0.01441 -0.02497 -0.01754 -0.03468 C -0.01892 -0.03931 -0.02431 -0.03954 -0.02691 -0.04301 C -0.03247 -0.05041 -0.03941 -0.05411 -0.04601 -0.05989 C -0.07917 -0.05688 -0.07361 -0.06382 -0.07136 -0.01781 C -0.0724 -0.00925 -0.0724 -0.00046 -0.07465 0.00763 C -0.07604 0.01248 -0.09063 0.01664 -0.09531 0.01826 C -0.10174 0.01641 -0.10972 0.01803 -0.11424 0.01179 C -0.11545 0.01017 -0.11476 0.00717 -0.1158 0.00555 C -0.11701 0.00347 -0.1191 0.00277 -0.12066 0.00138 C -0.1217 -0.0007 -0.12222 -0.00347 -0.12379 -0.00509 C -0.1257 -0.00717 -0.12865 -0.00694 -0.13021 -0.00925 C -0.13663 -0.01919 -0.13004 -0.02336 -0.14132 -0.02821 C -0.15313 -0.02659 -0.15972 -0.02659 -0.16979 -0.01989 C -0.17083 -0.00925 -0.17118 0.00138 -0.17309 0.01179 C -0.17431 0.01849 -0.19201 0.02381 -0.19531 0.02451 C -0.20052 0.02312 -0.20608 0.02312 -0.21111 0.02034 C -0.21146 0.02011 -0.22014 0.00462 -0.22066 0.00347 C -0.2217 -0.00208 -0.22222 -0.00809 -0.22379 -0.01341 C -0.22431 -0.01526 -0.22674 -0.01572 -0.22691 -0.01781 C -0.22813 -0.04463 -0.22483 -0.06821 -0.20799 -0.08324 C -0.19618 -0.07885 -0.19549 -0.07977 -0.19045 -0.06636 C -0.18802 -0.05272 -0.1849 -0.0333 -0.19688 -0.02821 C -0.20816 -0.03006 -0.22205 -0.02613 -0.23021 -0.03677 C -0.23281 -0.04 -0.23299 -0.04555 -0.2349 -0.04948 C -0.23594 -0.05942 -0.2349 -0.07006 -0.23802 -0.07908 C -0.24011 -0.08555 -0.24705 -0.08671 -0.25087 -0.09179 C -0.25677 -0.09064 -0.26267 -0.09064 -0.26823 -0.0874 C -0.28715 -0.07607 -0.27465 -0.08162 -0.28576 -0.077 C -0.28889 -0.07422 -0.29566 -0.07353 -0.29531 -0.06844 C -0.29427 -0.04925 -0.29618 -0.03006 -0.28576 -0.01549 C -0.28386 -0.00809 -0.27951 -0.00231 -0.28576 0.00347 C -0.2875 0.00508 -0.28993 0.00485 -0.29201 0.00555 C -0.34184 0.00092 -0.32361 0.00647 -0.34913 -0.00717 C -0.35156 -0.01018 -0.35469 -0.01226 -0.35712 -0.01549 C -0.36424 -0.0252 -0.35573 -0.02012 -0.36511 -0.02405 C -0.36615 -0.02613 -0.36684 -0.02844 -0.36823 -0.03029 C -0.36962 -0.03214 -0.37188 -0.0326 -0.37309 -0.03468 C -0.3875 -0.05688 -0.37153 -0.03977 -0.38576 -0.05364 C -0.39688 -0.08393 -0.39011 -0.0622 -0.38733 -0.13619 C -0.38715 -0.13989 -0.38611 -0.14729 -0.38247 -0.14867 C -0.37691 -0.15099 -0.37083 -0.15168 -0.36511 -0.15307 C -0.36615 -0.16 -0.36424 -0.16925 -0.36823 -0.17411 C -0.37535 -0.18266 -0.38351 -0.16879 -0.38733 -0.16347 C -0.38681 -0.15353 -0.39184 -0.13942 -0.38576 -0.13388 C -0.36476 -0.11422 -0.36181 -0.13203 -0.35868 -0.14451 C -0.36684 -0.15468 -0.37049 -0.14867 -0.37465 -0.13827 C -0.3717 -0.11376 -0.3658 -0.12393 -0.34445 -0.12763 C -0.33924 -0.13804 -0.34132 -0.13133 -0.34132 -0.14867 E">
                                      <p:cBhvr>
                                        <p:cTn id="68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8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15745 C 0.00018 -0.14682 0.00921 -0.13618 0.0132 -0.12277 C 0.01719 -0.1082 0.01928 -0.09086 0.02119 -0.07352 C 0.02327 -0.05618 0.02119 -0.04161 0.01928 -0.02566 C 0.01719 -0.01086 0.01424 0.00509 0.00712 0.01827 C 0.00122 0.03168 -0.00885 0.04232 -0.01979 0.05041 C -0.02986 0.05827 -0.04184 0.06359 -0.05381 0.06636 C -0.06579 0.06891 -0.07777 0.06891 -0.08888 0.06636 C -0.10086 0.06359 -0.1118 0.05688 -0.12083 0.04625 C -0.12986 0.037 -0.13784 0.02498 -0.14184 0.01041 C -0.14687 -0.003 -0.14878 -0.0215 -0.14878 -0.0363 C -0.14982 -0.05086 -0.14878 -0.0682 -0.14375 -0.08277 C -0.13888 -0.09618 -0.12986 -0.10682 -0.11788 -0.11213 C -0.10572 -0.11607 -0.09375 -0.11075 -0.08576 -0.1015 C -0.07881 -0.09225 -0.07378 -0.07745 -0.07274 -0.06034 C -0.07274 -0.043 -0.07378 -0.02705 -0.07881 -0.01364 C -0.08385 -0.000229999999999999 -0.08281 0.00232 -0.10277 0.01966 C -0.12083 0.03839 -0.13888 0.03307 -0.14982 0.03422 C -0.16076 0.03422 -0.16979 0.02891 -0.18072 0.02359 C -0.19288 0.01711 -0.20277 0.00509 -0.20989 -0.00555 C -0.21684 -0.01618 -0.21979 -0.02959 -0.22378 -0.05086 C -0.22673 -0.07213 -0.22673 -0.08277 -0.22673 -0.09896 C -0.22673 -0.11491 -0.22673 -0.13086 -0.22673 -0.14682 E">
                                      <p:cBhvr>
                                        <p:cTn id="70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74BC-ABE1-4F1D-92E4-61DB0E149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ь электрического ток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в металл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бонус"/>
          <p:cNvPicPr/>
          <p:nvPr/>
        </p:nvPicPr>
        <p:blipFill>
          <a:blip r:embed="rId1"/>
          <a:stretch/>
        </p:blipFill>
        <p:spPr>
          <a:xfrm>
            <a:off x="2340000" y="2421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2-2"/>
          <p:cNvPicPr/>
          <p:nvPr/>
        </p:nvPicPr>
        <p:blipFill>
          <a:blip r:embed="rId2"/>
          <a:stretch/>
        </p:blipFill>
        <p:spPr>
          <a:xfrm>
            <a:off x="5580000" y="404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2-2"/>
          <p:cNvPicPr/>
          <p:nvPr/>
        </p:nvPicPr>
        <p:blipFill>
          <a:blip r:embed="rId3"/>
          <a:stretch/>
        </p:blipFill>
        <p:spPr>
          <a:xfrm>
            <a:off x="2771640" y="404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2-2"/>
          <p:cNvPicPr/>
          <p:nvPr/>
        </p:nvPicPr>
        <p:blipFill>
          <a:blip r:embed="rId4"/>
          <a:stretch/>
        </p:blipFill>
        <p:spPr>
          <a:xfrm>
            <a:off x="2771640" y="2608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BLUEITEM"/>
          <p:cNvPicPr/>
          <p:nvPr/>
        </p:nvPicPr>
        <p:blipFill>
          <a:blip r:embed="rId5"/>
          <a:stretch/>
        </p:blipFill>
        <p:spPr>
          <a:xfrm>
            <a:off x="6012000" y="35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-2"/>
          <p:cNvPicPr/>
          <p:nvPr/>
        </p:nvPicPr>
        <p:blipFill>
          <a:blip r:embed="rId6"/>
          <a:stretch/>
        </p:blipFill>
        <p:spPr>
          <a:xfrm>
            <a:off x="5651640" y="5489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2-2"/>
          <p:cNvPicPr/>
          <p:nvPr/>
        </p:nvPicPr>
        <p:blipFill>
          <a:blip r:embed="rId7"/>
          <a:stretch/>
        </p:blipFill>
        <p:spPr>
          <a:xfrm>
            <a:off x="4211640" y="2608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2-2"/>
          <p:cNvPicPr/>
          <p:nvPr/>
        </p:nvPicPr>
        <p:blipFill>
          <a:blip r:embed="rId8"/>
          <a:stretch/>
        </p:blipFill>
        <p:spPr>
          <a:xfrm>
            <a:off x="5580000" y="2608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2-2"/>
          <p:cNvPicPr/>
          <p:nvPr/>
        </p:nvPicPr>
        <p:blipFill>
          <a:blip r:embed="rId9"/>
          <a:stretch/>
        </p:blipFill>
        <p:spPr>
          <a:xfrm>
            <a:off x="4211640" y="404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2-2"/>
          <p:cNvPicPr/>
          <p:nvPr/>
        </p:nvPicPr>
        <p:blipFill>
          <a:blip r:embed="rId10"/>
          <a:stretch/>
        </p:blipFill>
        <p:spPr>
          <a:xfrm>
            <a:off x="4211640" y="548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2-2"/>
          <p:cNvPicPr/>
          <p:nvPr/>
        </p:nvPicPr>
        <p:blipFill>
          <a:blip r:embed="rId11"/>
          <a:stretch/>
        </p:blipFill>
        <p:spPr>
          <a:xfrm>
            <a:off x="2771640" y="544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BLUEITEM"/>
          <p:cNvPicPr/>
          <p:nvPr/>
        </p:nvPicPr>
        <p:blipFill>
          <a:blip r:embed="rId12"/>
          <a:stretch/>
        </p:blipFill>
        <p:spPr>
          <a:xfrm>
            <a:off x="5076720" y="39337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BLUEITEM"/>
          <p:cNvPicPr/>
          <p:nvPr/>
        </p:nvPicPr>
        <p:blipFill>
          <a:blip r:embed="rId13"/>
          <a:stretch/>
        </p:blipFill>
        <p:spPr>
          <a:xfrm>
            <a:off x="3419640" y="31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BLUEITEM"/>
          <p:cNvPicPr/>
          <p:nvPr/>
        </p:nvPicPr>
        <p:blipFill>
          <a:blip r:embed="rId14"/>
          <a:stretch/>
        </p:blipFill>
        <p:spPr>
          <a:xfrm rot="21201000">
            <a:off x="3703680" y="44319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BLUEITEM"/>
          <p:cNvPicPr/>
          <p:nvPr/>
        </p:nvPicPr>
        <p:blipFill>
          <a:blip r:embed="rId15"/>
          <a:stretch/>
        </p:blipFill>
        <p:spPr>
          <a:xfrm>
            <a:off x="5076720" y="4581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BLUEITEM"/>
          <p:cNvPicPr/>
          <p:nvPr/>
        </p:nvPicPr>
        <p:blipFill>
          <a:blip r:embed="rId16"/>
          <a:stretch/>
        </p:blipFill>
        <p:spPr>
          <a:xfrm>
            <a:off x="5364000" y="52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BLUEITEM"/>
          <p:cNvPicPr/>
          <p:nvPr/>
        </p:nvPicPr>
        <p:blipFill>
          <a:blip r:embed="rId17"/>
          <a:stretch/>
        </p:blipFill>
        <p:spPr>
          <a:xfrm>
            <a:off x="385128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BLUEITEM"/>
          <p:cNvPicPr/>
          <p:nvPr/>
        </p:nvPicPr>
        <p:blipFill>
          <a:blip r:embed="rId18"/>
          <a:stretch/>
        </p:blipFill>
        <p:spPr>
          <a:xfrm rot="21416400">
            <a:off x="4788000" y="33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1" descr="BLUEITEM"/>
          <p:cNvPicPr/>
          <p:nvPr/>
        </p:nvPicPr>
        <p:blipFill>
          <a:blip r:embed="rId19"/>
          <a:stretch/>
        </p:blipFill>
        <p:spPr>
          <a:xfrm>
            <a:off x="385128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" descr="BLUEITEM"/>
          <p:cNvPicPr/>
          <p:nvPr/>
        </p:nvPicPr>
        <p:blipFill>
          <a:blip r:embed="rId20"/>
          <a:stretch/>
        </p:blipFill>
        <p:spPr>
          <a:xfrm>
            <a:off x="6443640" y="5013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63" name="Line 23"/>
          <p:cNvSpPr/>
          <p:nvPr/>
        </p:nvSpPr>
        <p:spPr>
          <a:xfrm>
            <a:off x="2124000" y="2349360"/>
            <a:ext cx="4680000" cy="0"/>
          </a:xfrm>
          <a:prstGeom prst="line">
            <a:avLst/>
          </a:prstGeom>
          <a:ln w="6660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24"/>
          <p:cNvSpPr txBox="1"/>
          <p:nvPr/>
        </p:nvSpPr>
        <p:spPr>
          <a:xfrm>
            <a:off x="6443640" y="1844640"/>
            <a:ext cx="289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65" name="Line 25"/>
          <p:cNvSpPr/>
          <p:nvPr/>
        </p:nvSpPr>
        <p:spPr>
          <a:xfrm>
            <a:off x="6372360" y="1773360"/>
            <a:ext cx="4316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6" descr="BLUEITEM"/>
          <p:cNvPicPr/>
          <p:nvPr/>
        </p:nvPicPr>
        <p:blipFill>
          <a:blip r:embed="rId21"/>
          <a:stretch/>
        </p:blipFill>
        <p:spPr>
          <a:xfrm>
            <a:off x="5940360" y="31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7" descr="BLUEITEM"/>
          <p:cNvPicPr/>
          <p:nvPr/>
        </p:nvPicPr>
        <p:blipFill>
          <a:blip r:embed="rId22"/>
          <a:stretch/>
        </p:blipFill>
        <p:spPr>
          <a:xfrm>
            <a:off x="615636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8" descr="BLUEITEM"/>
          <p:cNvPicPr/>
          <p:nvPr/>
        </p:nvPicPr>
        <p:blipFill>
          <a:blip r:embed="rId23"/>
          <a:stretch/>
        </p:blipFill>
        <p:spPr>
          <a:xfrm>
            <a:off x="6084720" y="602280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9" descr="2-2"/>
          <p:cNvPicPr/>
          <p:nvPr/>
        </p:nvPicPr>
        <p:blipFill>
          <a:blip r:embed="rId24"/>
          <a:stretch/>
        </p:blipFill>
        <p:spPr>
          <a:xfrm>
            <a:off x="684360" y="2492280"/>
            <a:ext cx="576000" cy="5637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0"/>
          <p:cNvSpPr/>
          <p:nvPr/>
        </p:nvSpPr>
        <p:spPr>
          <a:xfrm>
            <a:off x="108000" y="328464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 металла, несущий на себе положительный за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1" descr="BLUEITEM"/>
          <p:cNvPicPr/>
          <p:nvPr/>
        </p:nvPicPr>
        <p:blipFill>
          <a:blip r:embed="rId25"/>
          <a:stretch/>
        </p:blipFill>
        <p:spPr>
          <a:xfrm>
            <a:off x="7667640" y="2565360"/>
            <a:ext cx="380880" cy="419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2"/>
          <p:cNvSpPr/>
          <p:nvPr/>
        </p:nvSpPr>
        <p:spPr>
          <a:xfrm>
            <a:off x="7020000" y="32130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, несущий на себе отрицательный за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2124000" y="1989000"/>
            <a:ext cx="0" cy="446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6804000" y="1989000"/>
            <a:ext cx="0" cy="446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05"/>
          <p:cNvGrpSpPr/>
          <p:nvPr/>
        </p:nvGrpSpPr>
        <p:grpSpPr>
          <a:xfrm>
            <a:off x="1835280" y="5734080"/>
            <a:ext cx="288720" cy="287280"/>
            <a:chOff x="1835280" y="5734080"/>
            <a:chExt cx="288720" cy="287280"/>
          </a:xfrm>
        </p:grpSpPr>
        <p:sp>
          <p:nvSpPr>
            <p:cNvPr id="276" name="Line 106"/>
            <p:cNvSpPr/>
            <p:nvPr/>
          </p:nvSpPr>
          <p:spPr>
            <a:xfrm>
              <a:off x="1979640" y="573408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07"/>
            <p:cNvSpPr/>
            <p:nvPr/>
          </p:nvSpPr>
          <p:spPr>
            <a:xfrm>
              <a:off x="1835280" y="5877000"/>
              <a:ext cx="288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08"/>
          <p:cNvGrpSpPr/>
          <p:nvPr/>
        </p:nvGrpSpPr>
        <p:grpSpPr>
          <a:xfrm>
            <a:off x="1835280" y="4724280"/>
            <a:ext cx="288720" cy="287280"/>
            <a:chOff x="1835280" y="4724280"/>
            <a:chExt cx="288720" cy="287280"/>
          </a:xfrm>
        </p:grpSpPr>
        <p:sp>
          <p:nvSpPr>
            <p:cNvPr id="279" name="Line 109"/>
            <p:cNvSpPr/>
            <p:nvPr/>
          </p:nvSpPr>
          <p:spPr>
            <a:xfrm>
              <a:off x="1979640" y="472428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0"/>
            <p:cNvSpPr/>
            <p:nvPr/>
          </p:nvSpPr>
          <p:spPr>
            <a:xfrm>
              <a:off x="1835280" y="4867200"/>
              <a:ext cx="288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11"/>
          <p:cNvGrpSpPr/>
          <p:nvPr/>
        </p:nvGrpSpPr>
        <p:grpSpPr>
          <a:xfrm>
            <a:off x="1835280" y="3789360"/>
            <a:ext cx="288720" cy="287280"/>
            <a:chOff x="1835280" y="3789360"/>
            <a:chExt cx="288720" cy="287280"/>
          </a:xfrm>
        </p:grpSpPr>
        <p:sp>
          <p:nvSpPr>
            <p:cNvPr id="282" name="Line 112"/>
            <p:cNvSpPr/>
            <p:nvPr/>
          </p:nvSpPr>
          <p:spPr>
            <a:xfrm>
              <a:off x="1979640" y="378936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13"/>
            <p:cNvSpPr/>
            <p:nvPr/>
          </p:nvSpPr>
          <p:spPr>
            <a:xfrm>
              <a:off x="1835280" y="3932280"/>
              <a:ext cx="288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14"/>
          <p:cNvGrpSpPr/>
          <p:nvPr/>
        </p:nvGrpSpPr>
        <p:grpSpPr>
          <a:xfrm>
            <a:off x="1835280" y="2781360"/>
            <a:ext cx="288720" cy="287280"/>
            <a:chOff x="1835280" y="2781360"/>
            <a:chExt cx="288720" cy="287280"/>
          </a:xfrm>
        </p:grpSpPr>
        <p:sp>
          <p:nvSpPr>
            <p:cNvPr id="285" name="Line 115"/>
            <p:cNvSpPr/>
            <p:nvPr/>
          </p:nvSpPr>
          <p:spPr>
            <a:xfrm>
              <a:off x="1979640" y="278136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6"/>
            <p:cNvSpPr/>
            <p:nvPr/>
          </p:nvSpPr>
          <p:spPr>
            <a:xfrm>
              <a:off x="1835280" y="2924280"/>
              <a:ext cx="288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Line 117"/>
          <p:cNvSpPr/>
          <p:nvPr/>
        </p:nvSpPr>
        <p:spPr>
          <a:xfrm>
            <a:off x="6732720" y="5805360"/>
            <a:ext cx="28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8"/>
          <p:cNvSpPr/>
          <p:nvPr/>
        </p:nvSpPr>
        <p:spPr>
          <a:xfrm>
            <a:off x="6732720" y="4869000"/>
            <a:ext cx="28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9"/>
          <p:cNvSpPr/>
          <p:nvPr/>
        </p:nvSpPr>
        <p:spPr>
          <a:xfrm>
            <a:off x="6732720" y="2852640"/>
            <a:ext cx="28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0"/>
          <p:cNvSpPr/>
          <p:nvPr/>
        </p:nvSpPr>
        <p:spPr>
          <a:xfrm>
            <a:off x="6732720" y="3860640"/>
            <a:ext cx="28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20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22" dur="5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24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26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28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30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32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3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0139 -0.00434 -0.00185 -0.00486 -0.00439 C -0.00555 -0.00786 -0.00399 -0.01133 -0.0033 -0.0148 C -0.00139 -0.02474 0.00122 -0.03514 0.00469 -0.04439 C 0.01111 -0.0437 0.01754 -0.0437 0.02379 -0.04231 C 0.02709 -0.04162 0.03334 -0.03815 0.03334 -0.03815 C 0.04028 -0.03214 0.03872 -0.02913 0.04115 -0.01919 C 0.04011 -0.01572 0.03959 -0.01156 0.03802 -0.00855 C 0.03455 -0.00208 0.02275 0.00046 0.01736 0.00208 C 0.01424 0.0007 0.01042 0.00046 0.00782 -0.00231 C 0.00365 -0.0067 0.00209 -0.0141 -0.00173 -0.01919 C 0.00191 -0.03214 0.00556 -0.02936 0.0158 -0.02751 C 0.02205 -0.02474 0.02327 -0.02312 0.02535 -0.0148 C 0.01788 -0.00832 0.01702 -0.0111 0.01111 -0.01919 C 0.01337 -0.02104 0.02691 -0.02982 0.01736 -0.01711 E">
                                      <p:cBhvr>
                                        <p:cTn id="13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6532E-006 L -0.11806 -1.96532E-006 E">
                                      <p:cBhvr>
                                        <p:cTn id="138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12604 -3.33333E-006 E">
                                      <p:cBhvr>
                                        <p:cTn id="140" dur="5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574 L -0.2085 -0.01042 E">
                                      <p:cBhvr>
                                        <p:cTn id="142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46 C -0.05069 -0.00532 -0.10156 -0.01088 -0.1099 -0.00393 C -0.11823 0.00301 -0.05972 0.0338 -0.04965 0.04144 E">
                                      <p:cBhvr>
                                        <p:cTn id="14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C -0.03854 0.01551 -0.07708 0.03125 -0.07048 0.00463 C -0.06389 -0.02199 0.0382 -0.13796 0.03976 -0.15903 C 0.04132 -0.18009 -0.01666 -0.12778 -0.06146 -0.1213 C -0.10625 -0.11482 -0.20156 -0.11991 -0.22951 -0.11968 E">
                                      <p:cBhvr>
                                        <p:cTn id="14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0.23889 -0.00348 E">
                                      <p:cBhvr>
                                        <p:cTn id="148" dur="5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-0.19688 -3.33333E-006 E">
                                      <p:cBhvr>
                                        <p:cTn id="150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-0.00833 L -0.18437 -0.01365 E">
                                      <p:cBhvr>
                                        <p:cTn id="152" dur="5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19271 0.00532 E">
                                      <p:cBhvr>
                                        <p:cTn id="154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C -0.10781 0.00949 -0.21562 0.01898 -0.24444 0.01064 C -0.27326 0.00231 -0.18472 -0.03982 -0.17274 -0.05 E">
                                      <p:cBhvr>
                                        <p:cTn id="15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6532E-006 L -0.11806 -1.96532E-006 E">
                                      <p:cBhvr>
                                        <p:cTn id="15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6532E-006 L -0.11806 -1.96532E-006 E">
                                      <p:cBhvr>
                                        <p:cTn id="162" dur="5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6532E-006 L -0.11806 -1.96532E-006 E">
                                      <p:cBhvr>
                                        <p:cTn id="166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408B-BA76-426B-A87D-6B74F5BA8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Ом (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hm)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Георг Симон 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(16.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651640" y="404640"/>
            <a:ext cx="3186000" cy="424836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5437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1881 именем Ома названа единица электрического сопротивления (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1:45:20Z</dcterms:created>
  <dc:creator>Serg</dc:creator>
  <dc:description/>
  <dc:language>en-US</dc:language>
  <cp:lastModifiedBy>методист</cp:lastModifiedBy>
  <dcterms:modified xsi:type="dcterms:W3CDTF">2012-03-14T13:23:20Z</dcterms:modified>
  <cp:revision>49</cp:revision>
  <dc:subject/>
  <dc:title>Слайд 1</dc:title>
</cp:coreProperties>
</file>